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C43975D0-A49B-4A4A-AFA2-7C5D4908B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220840" y="603360"/>
            <a:ext cx="2722680" cy="2041560"/>
          </a:xfrm>
          <a:prstGeom prst="rect">
            <a:avLst/>
          </a:prstGeom>
          <a:ln w="0">
            <a:noFill/>
          </a:ln>
        </p:spPr>
      </p:sp>
      <p:sp>
        <p:nvSpPr>
          <p:cNvPr id="184" name="PlaceHolder 2"/>
          <p:cNvSpPr>
            <a:spLocks noGrp="1"/>
          </p:cNvSpPr>
          <p:nvPr>
            <p:ph type="body"/>
          </p:nvPr>
        </p:nvSpPr>
        <p:spPr>
          <a:xfrm>
            <a:off x="685800" y="2870280"/>
            <a:ext cx="5486400" cy="5518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LEN WHITE Y EL PAPEL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IENVEN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ropósito de nuestro seminario es examinar las declaraciones de</a:t>
            </a:r>
            <a:r>
              <a:rPr b="1" lang="es-ES" sz="1200" spc="-1" strike="noStrike">
                <a:solidFill>
                  <a:srgbClr val="000000"/>
                </a:solidFill>
                <a:latin typeface="Arial"/>
              </a:rPr>
              <a:t> </a:t>
            </a:r>
            <a:r>
              <a:rPr b="0" lang="es-ES" sz="1200" spc="-1" strike="noStrike">
                <a:solidFill>
                  <a:srgbClr val="000000"/>
                </a:solidFill>
                <a:latin typeface="Arial"/>
              </a:rPr>
              <a:t>Ellen White referentes al papel de las mujeres en el evangelismo. Nuestro deseo es saber qué escribió y habló sobre la parte de las mujeres en la obra de la propagación del evangelio. Descubriremos que su visión para el envolvimiento de las mujeres era muy abarcante. Ella habló de las diversas formas por las cuales las mujeres podrían servir a Dios, de acuerdo con sus circunstancias y tal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cho de nuestro material fue extraído de las cartas y de artículos que ella escribió. Éste fue escrito para una determinada audiencia, en un determinado tiempo. Por supuesto, los principios encontrados no cambian, pero las circunstancias y como los usamos pueden cambiar a lo largo del tiempo. El objetivo de la experiencia de hoy no es aprender cómo las mujeres del siglo pasado podían servir a Dios, sino reflexionar </a:t>
            </a:r>
            <a:r>
              <a:rPr b="0" i="1" lang="es-ES" sz="1200" spc="-1" strike="noStrike">
                <a:solidFill>
                  <a:srgbClr val="000000"/>
                </a:solidFill>
                <a:latin typeface="Arial"/>
              </a:rPr>
              <a:t>cómo</a:t>
            </a:r>
            <a:r>
              <a:rPr b="0" lang="es-ES" sz="1200" spc="-1" strike="noStrike">
                <a:solidFill>
                  <a:srgbClr val="000000"/>
                </a:solidFill>
                <a:latin typeface="Arial"/>
              </a:rPr>
              <a:t> </a:t>
            </a:r>
            <a:r>
              <a:rPr b="0" i="1" lang="es-ES" sz="1200" spc="-1" strike="noStrike">
                <a:solidFill>
                  <a:srgbClr val="000000"/>
                </a:solidFill>
                <a:latin typeface="Arial"/>
              </a:rPr>
              <a:t>podemos</a:t>
            </a:r>
            <a:r>
              <a:rPr b="0" lang="es-ES" sz="1200" spc="-1" strike="noStrike">
                <a:solidFill>
                  <a:srgbClr val="000000"/>
                </a:solidFill>
                <a:latin typeface="Arial"/>
              </a:rPr>
              <a:t> </a:t>
            </a:r>
            <a:r>
              <a:rPr b="0" i="1" lang="es-ES" sz="1200" spc="-1" strike="noStrike">
                <a:solidFill>
                  <a:srgbClr val="000000"/>
                </a:solidFill>
                <a:latin typeface="Arial"/>
              </a:rPr>
              <a:t>nosotros</a:t>
            </a:r>
            <a:r>
              <a:rPr b="0" lang="es-ES" sz="1200" spc="-1" strike="noStrike">
                <a:solidFill>
                  <a:srgbClr val="000000"/>
                </a:solidFill>
                <a:latin typeface="Arial"/>
              </a:rPr>
              <a:t> </a:t>
            </a:r>
            <a:r>
              <a:rPr b="0" i="1" lang="es-ES" sz="1200" spc="-1" strike="noStrike">
                <a:solidFill>
                  <a:srgbClr val="000000"/>
                </a:solidFill>
                <a:latin typeface="Arial"/>
              </a:rPr>
              <a:t>servirlo ah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ntro de instantes, se les entregará una hoja. Consideraremos mucho material y estas hojas contienen el bosquejo de la presentación con todas las citas y declaraciones usadas aquí. El propósito aquí es doble. Primero, ser una referencia. No vamos a leer durante el seminario, cada declaración en los escritos de Ellen White para los comentarios realizados. Este bosquejo citará las declaraciones aludidas en la presentación para las cuales no daremos una referencia oral. El segundo propósito es hacerle preguntas para consideraciones</a:t>
            </a:r>
            <a:r>
              <a:rPr b="1" lang="es-ES" sz="1200" spc="-1" strike="noStrike">
                <a:solidFill>
                  <a:srgbClr val="000000"/>
                </a:solidFill>
                <a:latin typeface="Arial"/>
              </a:rPr>
              <a:t> </a:t>
            </a:r>
            <a:r>
              <a:rPr b="0" lang="es-ES" sz="1200" spc="-1" strike="noStrike">
                <a:solidFill>
                  <a:srgbClr val="000000"/>
                </a:solidFill>
                <a:latin typeface="Arial"/>
              </a:rPr>
              <a:t>individuales posteriores que a ayudarán a encontrar formas de aplicar en su ministerio el material estudiado </a:t>
            </a:r>
            <a:r>
              <a:rPr b="0" lang="es-ES" sz="1200" spc="-1" strike="noStrike">
                <a:solidFill>
                  <a:srgbClr val="000000"/>
                </a:solidFill>
                <a:latin typeface="Garamond"/>
              </a:rPr>
              <a:t>.</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057400" y="679320"/>
            <a:ext cx="2921040" cy="2190960"/>
          </a:xfrm>
          <a:prstGeom prst="rect">
            <a:avLst/>
          </a:prstGeom>
          <a:ln w="0">
            <a:noFill/>
          </a:ln>
        </p:spPr>
      </p:sp>
      <p:sp>
        <p:nvSpPr>
          <p:cNvPr id="202" name="PlaceHolder 2"/>
          <p:cNvSpPr>
            <a:spLocks noGrp="1"/>
          </p:cNvSpPr>
          <p:nvPr>
            <p:ph type="body"/>
          </p:nvPr>
        </p:nvSpPr>
        <p:spPr>
          <a:xfrm>
            <a:off x="685800" y="2901600"/>
            <a:ext cx="5486400" cy="536580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Y nuevamente le escribió a la Sra. Henry:</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He pensado que con su experiencia, bajo la supervisión de Dios, Ud. Podría ejercer su influencia para poner en acción formas de trabajo donde las mujeres puedan unirse juntamente para laborar con el Señor. Ciertamente debería haber un gran número de mujeres dedicadas a ministrar a la humanidad doliente, a elevarla y educarla para que crean –nada más que para que crean- en Jesucristo nuestro Salvador. Y a medida que las almas se den al Señor Jesús, y se entreguen completamente, comprenderán la doctrina. . . </a:t>
            </a:r>
            <a:r>
              <a:rPr b="0" lang="pt-B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82960" y="755640"/>
            <a:ext cx="2920680" cy="2190600"/>
          </a:xfrm>
          <a:prstGeom prst="rect">
            <a:avLst/>
          </a:prstGeom>
          <a:ln w="0">
            <a:noFill/>
          </a:ln>
        </p:spPr>
      </p:sp>
      <p:sp>
        <p:nvSpPr>
          <p:cNvPr id="204"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Me siento apenada porque nuestras hermanas de los Estados Unidos no están haciendo más de lo que podrían hacer por el Señor Jesús. Si esperan en Cristo, recibirán valor, fuerza y fe para realizar la obra. A muchas mujeres les gusta hablar. ¿Por qué no podrían hablar las palabras de Cristo a las almas que perecen? Cuanto más estrechamente nos relacionamos con Cristo, tanto más aprende el corazón la condición desesperada de las almas que no conocen a Dios, y que no sienten la deshonra que están infligiendo a Cristo quien las ha comprado por precio. Carta 133, 1898.” (</a:t>
            </a:r>
            <a:r>
              <a:rPr b="0" i="1" lang="es-ES" sz="1200" spc="-1" strike="noStrike">
                <a:solidFill>
                  <a:srgbClr val="000000"/>
                </a:solidFill>
                <a:latin typeface="Arial"/>
              </a:rPr>
              <a:t>Evangelismo</a:t>
            </a:r>
            <a:r>
              <a:rPr b="0" lang="es-ES" sz="1200" spc="-1" strike="noStrike">
                <a:solidFill>
                  <a:srgbClr val="000000"/>
                </a:solidFill>
                <a:latin typeface="Arial"/>
              </a:rPr>
              <a:t>, 340)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60560" y="571680"/>
            <a:ext cx="2860560" cy="2145960"/>
          </a:xfrm>
          <a:prstGeom prst="rect">
            <a:avLst/>
          </a:prstGeom>
          <a:ln w="0">
            <a:noFill/>
          </a:ln>
        </p:spPr>
      </p:sp>
      <p:sp>
        <p:nvSpPr>
          <p:cNvPr id="206" name="PlaceHolder 2"/>
          <p:cNvSpPr>
            <a:spLocks noGrp="1"/>
          </p:cNvSpPr>
          <p:nvPr>
            <p:ph type="body"/>
          </p:nvPr>
        </p:nvSpPr>
        <p:spPr>
          <a:xfrm>
            <a:off x="685800" y="278100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MUJER CRISTI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ten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veía a cada mujer como una fuerza, sea para el bien o para el mal, sobre las personas a su alrededor. Cada uno ejerce una influencia y las mujeres tienen un potencial especial para influenciar a los otros. Ella veía a las mujeres que eran conscientes de hecho de todo lo que decían, hacían y usaban como una herramienta para testimoniar a los otros. Ese potencial no debe ser subestimado </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201760" y="876240"/>
            <a:ext cx="2759040" cy="2070000"/>
          </a:xfrm>
          <a:prstGeom prst="rect">
            <a:avLst/>
          </a:prstGeom>
          <a:ln w="0">
            <a:noFill/>
          </a:ln>
        </p:spPr>
      </p:sp>
      <p:sp>
        <p:nvSpPr>
          <p:cNvPr id="208" name="PlaceHolder 2"/>
          <p:cNvSpPr>
            <a:spLocks noGrp="1"/>
          </p:cNvSpPr>
          <p:nvPr>
            <p:ph type="body"/>
          </p:nvPr>
        </p:nvSpPr>
        <p:spPr>
          <a:xfrm>
            <a:off x="685800" y="3086280"/>
            <a:ext cx="5486400" cy="51400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Trebuchet MS"/>
              </a:rPr>
              <a:t>Las mujeres pueden ejercer influencia transformadora si tan solo consintieran en entregar su camino y su voluntad a Dios y permitirle controlar su mente, afectos y ser. Ellas pueden ejercer influencia que tienda a refinar y elevar a aquellos con quienes se asocian. Sin embargo, esa clase generalmente, es inconsciente del poder que tiene.</a:t>
            </a:r>
            <a:r>
              <a:rPr b="0" lang="pt-BR"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11400" y="787320"/>
            <a:ext cx="2760480" cy="2070360"/>
          </a:xfrm>
          <a:prstGeom prst="rect">
            <a:avLst/>
          </a:prstGeom>
          <a:ln w="0">
            <a:noFill/>
          </a:ln>
        </p:spPr>
      </p:sp>
      <p:sp>
        <p:nvSpPr>
          <p:cNvPr id="210" name="PlaceHolder 2"/>
          <p:cNvSpPr>
            <a:spLocks noGrp="1"/>
          </p:cNvSpPr>
          <p:nvPr>
            <p:ph type="body"/>
          </p:nvPr>
        </p:nvSpPr>
        <p:spPr>
          <a:xfrm>
            <a:off x="685800" y="2977920"/>
            <a:ext cx="5486400" cy="5289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Ellas ejercen influencia inconsciente la cual parece fluir naturalmente de una vida santificada, de un corazón renovado. Es el fruto que crece naturalmente del buen árbol de la plantación divina. El yo es olvidado, mezclado en la vida de Cristo. Ser rico en buenas obras es tan natural cuanto la respiración. Viven para hacer a los otros el bien y, no obstante, están listas para decir: Somos siervas inútiles. 2T 465 (1870) (</a:t>
            </a:r>
            <a:r>
              <a:rPr b="0" i="1" lang="es-ES" sz="1200" spc="-1" strike="noStrike">
                <a:solidFill>
                  <a:srgbClr val="000000"/>
                </a:solidFill>
                <a:latin typeface="Trebuchet MS"/>
              </a:rPr>
              <a:t>Daughters of God</a:t>
            </a:r>
            <a:r>
              <a:rPr b="0" lang="es-ES" sz="1200" spc="-1" strike="noStrike">
                <a:solidFill>
                  <a:srgbClr val="000000"/>
                </a:solidFill>
                <a:latin typeface="Trebuchet MS"/>
              </a:rPr>
              <a:t>, p. 15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28880" y="495360"/>
            <a:ext cx="2755800" cy="2066760"/>
          </a:xfrm>
          <a:prstGeom prst="rect">
            <a:avLst/>
          </a:prstGeom>
          <a:ln w="0">
            <a:noFill/>
          </a:ln>
        </p:spPr>
      </p:sp>
      <p:sp>
        <p:nvSpPr>
          <p:cNvPr id="212" name="PlaceHolder 2"/>
          <p:cNvSpPr>
            <a:spLocks noGrp="1"/>
          </p:cNvSpPr>
          <p:nvPr>
            <p:ph type="body"/>
          </p:nvPr>
        </p:nvSpPr>
        <p:spPr>
          <a:xfrm>
            <a:off x="685800" y="2628720"/>
            <a:ext cx="5486400" cy="4911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Las esposas, las madres y las obreras jóvenes tienen una misión admirable. Si así lo desean, pueden ejercer a su alrededor una influencia para el bien. Pueden dar testimonio en favor de la sencillez de la verdad siendo modestas en el vestir y comportándose discretamente. Así pueden hacer brillar su luz delante de todos para que otros puedan ver sus buenas obras y glorificar a su Padre que está en los cielos. Una mujer verdaderamente convertida ejercerá una poderosa influencia transformadora en favor del bien. Manuscrito 9, 1908. (</a:t>
            </a:r>
            <a:r>
              <a:rPr b="0" i="1" lang="es-ES" sz="1200" spc="-1" strike="noStrike">
                <a:solidFill>
                  <a:srgbClr val="000000"/>
                </a:solidFill>
                <a:latin typeface="Trebuchet MS"/>
              </a:rPr>
              <a:t>Evangelismo</a:t>
            </a:r>
            <a:r>
              <a:rPr b="0" lang="es-ES" sz="1200" spc="-1" strike="noStrike">
                <a:solidFill>
                  <a:srgbClr val="000000"/>
                </a:solidFill>
                <a:latin typeface="Trebuchet MS"/>
              </a:rPr>
              <a:t>, 342)</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011320" y="571680"/>
            <a:ext cx="2757600" cy="2066760"/>
          </a:xfrm>
          <a:prstGeom prst="rect">
            <a:avLst/>
          </a:prstGeom>
          <a:ln w="0">
            <a:noFill/>
          </a:ln>
        </p:spPr>
      </p:sp>
      <p:sp>
        <p:nvSpPr>
          <p:cNvPr id="214" name="PlaceHolder 2"/>
          <p:cNvSpPr>
            <a:spLocks noGrp="1"/>
          </p:cNvSpPr>
          <p:nvPr>
            <p:ph type="body"/>
          </p:nvPr>
        </p:nvSpPr>
        <p:spPr>
          <a:xfrm>
            <a:off x="685800" y="2628720"/>
            <a:ext cx="5486400" cy="4911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mujer, si aprovecha sabiamente su tiempo y sus facultades, confiando en Dios para obtener sabiduría y fuerza, puede estar en un pie de igualdad con su esposo como consejera, compañera y colaboradora, y sin embargo, no perder su gracia o modestia femenina. Puede elevar su propio carácter, y a medida que lo hace, va elevando y ennobleciendo el carácter de su familia, y ejerciendo una poderosa aunque inconsciente influencia sobre los que la rodean. </a:t>
            </a:r>
            <a:r>
              <a:rPr b="0" i="1" lang="es-ES" sz="1200" spc="-1" strike="noStrike">
                <a:solidFill>
                  <a:srgbClr val="000000"/>
                </a:solidFill>
                <a:latin typeface="Trebuchet MS"/>
              </a:rPr>
              <a:t>Good Health</a:t>
            </a:r>
            <a:r>
              <a:rPr b="0" lang="es-ES" sz="1200" spc="-1" strike="noStrike">
                <a:solidFill>
                  <a:srgbClr val="000000"/>
                </a:solidFill>
                <a:latin typeface="Trebuchet MS"/>
              </a:rPr>
              <a:t>, junio, 1880.’ (</a:t>
            </a:r>
            <a:r>
              <a:rPr b="0" i="1" lang="es-ES" sz="1200" spc="-1" strike="noStrike">
                <a:solidFill>
                  <a:srgbClr val="000000"/>
                </a:solidFill>
                <a:latin typeface="Trebuchet MS"/>
              </a:rPr>
              <a:t>Evangelismo</a:t>
            </a:r>
            <a:r>
              <a:rPr b="0" lang="es-ES" sz="1200" spc="-1" strike="noStrike">
                <a:solidFill>
                  <a:srgbClr val="000000"/>
                </a:solidFill>
                <a:latin typeface="Trebuchet MS"/>
              </a:rPr>
              <a:t>, 341-3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te las formas por las cuales Ellen White indica que las mujeres pueden influenciar a aquellos que las rodean. Ella destaca que la forma de vestirse y la conducta de la mujer pueden ejercer gran influencia. Parece que por esos medios puede conquistar la dignidad y el respeto de sus pares. Aparentemente, la Sra. White veía a la mujer virtuosa y respetable como una fuerza poderosa en la sociedad. Con su reputación para afianzarla, sus palabras y ejemplo podrían ser mucho más eficientes. El testimonio de una mujer que es muy considerada por la calidad de su carácter es multiplicado muchas veces más y “no hay límite para el bien que pueden reali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cará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este tipo de influencia requiere un cierto carácter y capacitación para la mujer que lo usará para el reino de Dios. Exactamente qué tipo de mujer Ellen White imaginaba como un testimonio para los otros? O, preguntando mejor: “Exactamente, cuál era el potencial que veía en las mujeres; lo que en su visión la mujer podría llegar a 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imero, veía un carácter noble. Una mujer de Dios, que ejerce influencia para el bien de los que están alrededor, será verdaderamente convertida y profundamente comprometida.</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94040" y="755640"/>
            <a:ext cx="3022560" cy="2266920"/>
          </a:xfrm>
          <a:prstGeom prst="rect">
            <a:avLst/>
          </a:prstGeom>
          <a:ln w="0">
            <a:noFill/>
          </a:ln>
        </p:spPr>
      </p:sp>
      <p:sp>
        <p:nvSpPr>
          <p:cNvPr id="216" name="PlaceHolder 2"/>
          <p:cNvSpPr>
            <a:spLocks noGrp="1"/>
          </p:cNvSpPr>
          <p:nvPr>
            <p:ph type="body"/>
          </p:nvPr>
        </p:nvSpPr>
        <p:spPr>
          <a:xfrm>
            <a:off x="685800" y="3161880"/>
            <a:ext cx="5486400" cy="506412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Se necesitan mujeres de principios firmes y carácter decidido, mujeres que crean que realmente estamos viviendo en los últimos días y que tenemos el postrer solemne mensaje de amonestación para ser dado al mundo. Ellas debieran sentir que están ocupadas en una obra importante de difundir los rayos de luz que el cielo ha vertido sobre ellas. Cuando el amor de Dios y de su verdad es un principio permanente, no permitirán que nada las aparte de su deber ni las desanime en su obra.”</a:t>
            </a:r>
            <a:r>
              <a:rPr b="0" lang="es-ES" sz="1200" spc="-1" strike="noStrike">
                <a:solidFill>
                  <a:srgbClr val="000000"/>
                </a:solidFill>
                <a:latin typeface="Garamond"/>
              </a:rPr>
              <a:t>  Ministerio de la Bondad, pág. 156</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979640" y="571680"/>
            <a:ext cx="2962080" cy="2222280"/>
          </a:xfrm>
          <a:prstGeom prst="rect">
            <a:avLst/>
          </a:prstGeom>
          <a:ln w="0">
            <a:noFill/>
          </a:ln>
        </p:spPr>
      </p:sp>
      <p:sp>
        <p:nvSpPr>
          <p:cNvPr id="218" name="PlaceHolder 2"/>
          <p:cNvSpPr>
            <a:spLocks noGrp="1"/>
          </p:cNvSpPr>
          <p:nvPr>
            <p:ph type="body"/>
          </p:nvPr>
        </p:nvSpPr>
        <p:spPr>
          <a:xfrm>
            <a:off x="685800" y="2857320"/>
            <a:ext cx="5486400" cy="49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merán a Dios y no serán distraídas de sus labores en su causa por la tentación de puestos lucrativos y perspectivas atrayentes, A toda costa, preservarán su integridad para sí mismas. Estas son las que representarán correctamente la religión de Cristo, cuyas palabras serán pronunciadas adecuadamente, como manzanas de oro con figuras de plata. Tales personas, en muchas maneras, pueden hacer una obra preciosa para Dios. El las llama para que vayan al campo de la cosecha y ayuden a reunir las gavillas (Signs of the Times, 16-9-1886).  Ministerio de Curación, págs. 156-157)</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801800" y="571680"/>
            <a:ext cx="3165480" cy="2374560"/>
          </a:xfrm>
          <a:prstGeom prst="rect">
            <a:avLst/>
          </a:prstGeom>
          <a:ln w="0">
            <a:noFill/>
          </a:ln>
        </p:spPr>
      </p:sp>
      <p:sp>
        <p:nvSpPr>
          <p:cNvPr id="220"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3451320" y="301680"/>
            <a:ext cx="2319120" cy="1739880"/>
          </a:xfrm>
          <a:prstGeom prst="rect">
            <a:avLst/>
          </a:prstGeom>
          <a:ln w="0">
            <a:noFill/>
          </a:ln>
        </p:spPr>
      </p:sp>
      <p:sp>
        <p:nvSpPr>
          <p:cNvPr id="186" name="PlaceHolder 2"/>
          <p:cNvSpPr>
            <a:spLocks noGrp="1"/>
          </p:cNvSpPr>
          <p:nvPr>
            <p:ph type="body"/>
          </p:nvPr>
        </p:nvSpPr>
        <p:spPr>
          <a:xfrm>
            <a:off x="609480" y="1888920"/>
            <a:ext cx="5639040" cy="6648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NECESIDAD DE LAS MUJ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uerra Civil Americana irrumpió en 1861. En esa ocasión, el Departamento Médico del Ejército no estaba preparado para suplir las necesidades de la cantidad de heridos, y muchos murieron en el campo de batalla o mientras los llevaban para recibir los debidos cuidados médicos debido a la falta de suplementos y de atención inmediata. Clara Barton, una joven inteligente que trabajaba como escribana en el Departamento de Patentes de los EEUU, vio la necesidad y sintió el deseo de ayudar. Tenía algo de experiencia en enfermería y comenzó a hacer lobby para obtener permiso de llevar sus suplementos y  ayudar en 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tuvo que hacer lobby cerca de un año, mientras heridos y muertos pasaban ante ella en Washington. La burocracia del ejército no notaba lo que ella estaba pidiendo. Por qué una mujer debería ir al campo de batalla? De qué utilidad podría ser, cuando sólo el ver la guerra, el peligro y el estrés no era apropiado para una mujer? Será que solamente entorpecería el trabajo? Por fin, con la ayuda de un senador simpático a su pedido, consiguió un permiso y se dirigió a sus auto indicados deberes militares. Fue a uno de los lugares más sangrientos de la Guerra Civil, llevando alimento, agua, vendas, y hasta linternas comenzando a tratar y cuidar a los soldados. Fue llamada el  Ángel del Campo de Batalla y por fin, fundó la Cruz Roja Americana, ahora internacionalmente conocida como Cruz Roja, que presta servicios humanitarios en muchos paí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urante la década de 1860, surgía también la Iglesia Adventista del Séptimo Día. En la misma época y cultura, ella estaba volcada en la tentativa de salvar hombres y mujeres que estaban muriendo espiritualmente. Ellen White vivió durante esos años y se sentía responsable por los tres mensajes angélicos para que alcancen al mundo que perecía por la falta de la verdad. Los obreros eran escasos y, como vemos por la propia experiencia de Ellen White, muchas veces, sobrecargados tratando de ministrar las necesidades de la nueva iglesia y propagar el mensaje. En una situación como esa, ella fue firme para que ninguna mano que pudiera ayudar fuese impedida. Todos deben hacer su parte. Nadie debería pensar que está exento del servicio de Dios, y nadie debería prohibirle al otro cumplir su parte. Fue con esa visión evangélica práctica que Ellen White habló sobre el papel de las mujeres cristianas en el servicio. En sus escritos y en su ejemplo, instó a las mujeres a ser activas al presentar el evangelio al mundo y a trabajar por los hombres y mujeres perdidos. Sus argumentos referentes al trabajo que las mujeres podrían realizar eran prácticos, no teológicos. Ella no perdió el tiempo discutiendo la teología teniendo en cuenta la gran necesidad no satisfecha. E aquí lo que ella dijo: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31920" y="647640"/>
            <a:ext cx="2860920" cy="2146320"/>
          </a:xfrm>
          <a:prstGeom prst="rect">
            <a:avLst/>
          </a:prstGeom>
          <a:ln w="0">
            <a:noFill/>
          </a:ln>
        </p:spPr>
      </p:sp>
      <p:sp>
        <p:nvSpPr>
          <p:cNvPr id="222" name="PlaceHolder 2"/>
          <p:cNvSpPr>
            <a:spLocks noGrp="1"/>
          </p:cNvSpPr>
          <p:nvPr>
            <p:ph type="body"/>
          </p:nvPr>
        </p:nvSpPr>
        <p:spPr>
          <a:xfrm>
            <a:off x="685800" y="285732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lama a mujeres perseverantes, que aparten su atención del yo y la conveniencia personal, y la concentren en Cristo, hablando palabras de verdad, orando con las personas a las cuales tienen acceso, trabajando por la conversión de las almas.”(</a:t>
            </a:r>
            <a:r>
              <a:rPr b="0" i="1" lang="es-ES" sz="1200" spc="-1" strike="noStrike">
                <a:solidFill>
                  <a:srgbClr val="000000"/>
                </a:solidFill>
                <a:latin typeface="Arial"/>
              </a:rPr>
              <a:t>Evangelismo</a:t>
            </a:r>
            <a:r>
              <a:rPr b="0" lang="es-ES" sz="1200" spc="-1" strike="noStrike">
                <a:solidFill>
                  <a:srgbClr val="000000"/>
                </a:solidFill>
                <a:latin typeface="Arial"/>
              </a:rPr>
              <a:t>, 349-3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realizar el mejor trabajo para Dios, la mujer tiene la responsabilidad de desarrollar no solo su carácter, sino también sus poderes mentales. Ellen White creía que las mujeres no debían desperdiciar su mente al dejarla presa a cosas pequeñas. Aunque exista el deber de limpiar y de coser, haciendo tales tareas con excelencia, “como para el Señor”, no es el deber principal o más urgente. La mente necesita estar concentrada en la salvación, y en ponderar las maravillas de la gracia. Dios creó a las mujeres con capacidades mentales e inteligencia. Esa inteligencia cultivada puede ser una atracción e influencia para el mundo a favor de su f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878120" y="876240"/>
            <a:ext cx="2860560" cy="2146320"/>
          </a:xfrm>
          <a:prstGeom prst="rect">
            <a:avLst/>
          </a:prstGeom>
          <a:ln w="0">
            <a:noFill/>
          </a:ln>
        </p:spPr>
      </p:sp>
      <p:sp>
        <p:nvSpPr>
          <p:cNvPr id="224" name="PlaceHolder 2"/>
          <p:cNvSpPr>
            <a:spLocks noGrp="1"/>
          </p:cNvSpPr>
          <p:nvPr>
            <p:ph type="body"/>
          </p:nvPr>
        </p:nvSpPr>
        <p:spPr>
          <a:xfrm>
            <a:off x="685800" y="3162240"/>
            <a:ext cx="5486400" cy="4988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no habrían las mujeres de cultivar el intelecto? ¿Por qué no habrían de responder al propósito de Dios para su vida? ¿Por qué no podrían ellas darse cuenta de sus propias facultades, conscientes de estos poderes que les son dados por Dios, luchar para hacer uso de ellos en la medida máxima para servir a los demás, para hacer progresar la obra de reforma, de verdad y de verdadero bien al mundo? Satanás sabe que las mujeres tienen un poder de influencia para el bien o para el mal; por lo tanto él trata de alistarlas en su causa (Good Health, junio, 1880). (</a:t>
            </a:r>
            <a:r>
              <a:rPr b="0" i="1" lang="es-ES" sz="1200" spc="-1" strike="noStrike">
                <a:solidFill>
                  <a:srgbClr val="000000"/>
                </a:solidFill>
                <a:latin typeface="Arial"/>
              </a:rPr>
              <a:t>Evangelismo</a:t>
            </a:r>
            <a:r>
              <a:rPr b="0" lang="es-ES" sz="1200" spc="-1" strike="noStrike">
                <a:solidFill>
                  <a:srgbClr val="000000"/>
                </a:solidFill>
                <a:latin typeface="Arial"/>
              </a:rPr>
              <a:t>, p. 342)</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195640" y="453960"/>
            <a:ext cx="2620800" cy="1965240"/>
          </a:xfrm>
          <a:prstGeom prst="rect">
            <a:avLst/>
          </a:prstGeom>
          <a:ln w="0">
            <a:noFill/>
          </a:ln>
        </p:spPr>
      </p:sp>
      <p:sp>
        <p:nvSpPr>
          <p:cNvPr id="226" name="PlaceHolder 2"/>
          <p:cNvSpPr>
            <a:spLocks noGrp="1"/>
          </p:cNvSpPr>
          <p:nvPr>
            <p:ph type="body"/>
          </p:nvPr>
        </p:nvSpPr>
        <p:spPr>
          <a:xfrm>
            <a:off x="533520" y="2568600"/>
            <a:ext cx="5867280" cy="5819760"/>
          </a:xfrm>
          <a:prstGeom prst="rect">
            <a:avLst/>
          </a:prstGeom>
          <a:noFill/>
          <a:ln w="0">
            <a:noFill/>
          </a:ln>
        </p:spPr>
        <p:txBody>
          <a:bodyPr lIns="91080" rIns="91080" tIns="45360" bIns="4536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Nuestras hermanas, las jóvenes, las de edad madura y las ancianas, pueden desempeñar una parte en la terminación de la obra para este tiempo; y al hacerlo a medida que tienen oportunidad obtendrán una experiencia del valor más alto. Al olvidarse del yo crecerán en la gracia. Al ejercitar la mente en esta dirección, aprenderán cómo llevar cargas para Jesús (Review and Herald, 2 de enero, 1879).  </a:t>
            </a:r>
            <a:r>
              <a:rPr b="0" lang="es-ES" sz="1200" spc="-1" strike="noStrike">
                <a:solidFill>
                  <a:srgbClr val="ffffff"/>
                </a:solidFill>
                <a:latin typeface="Arial"/>
              </a:rPr>
              <a:t>(</a:t>
            </a:r>
            <a:r>
              <a:rPr b="0" i="1" lang="es-ES" sz="1200" spc="-1" strike="noStrike">
                <a:solidFill>
                  <a:srgbClr val="ffffff"/>
                </a:solidFill>
                <a:latin typeface="Arial"/>
              </a:rPr>
              <a:t>Evangelismo</a:t>
            </a:r>
            <a:r>
              <a:rPr b="0" lang="es-ES" sz="1200" spc="-1" strike="noStrike">
                <a:solidFill>
                  <a:srgbClr val="ffffff"/>
                </a:solidFill>
                <a:latin typeface="Arial"/>
              </a:rPr>
              <a:t>, 342)</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otencial y la influencia de la mujer cristiana, en la visión de Ellen White, es inmenso. Solamente el hecho de haber una mujer convertida en el vecindario será un poderoso bien al lugar donde vive, y el testimonio de esa mujer puede ser un trabajo inteligente y amoroso para el bien, repleto de la gracia de Dios y propiciando vida a todos los que la rodean. ¿Cómo hace la diferencia en su hogar, trabajo, iglesia o comunidad, una mujer así ? ¿Cómo puede usar Dios a alguien con esas características donde vives tú? ¿Cómo puede usar tu vida?</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iscusión:</a:t>
            </a:r>
            <a:r>
              <a:rPr b="0" lang="es-ES" sz="1200" spc="-1" strike="noStrike">
                <a:solidFill>
                  <a:srgbClr val="000000"/>
                </a:solidFill>
                <a:latin typeface="Arial"/>
              </a:rPr>
              <a:t> Oriente a las participantes del grupo a abrir las hojas que se entregaron y a considerar las citas y a discutir las preguntas. Si lo desea, lea las preguntas al grupo para iniciar. Indique el tiempo que será permitido. La primera discusión es fundamental, pero las posteriores son las ideas generadas. Llame a una voluntaria de uno o más grupos (de acuerdo con el tiempo) para presentar un breve resumen de la discusión para el grupo en genera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mas a considerar nº 1</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s tan importante que las mujeres use su influencia para la causa de Dio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Enumere las características de una mujer cristiana como las mencionadas en estas declaraciones. ¿Puede recordar otras enfatizadas por Ellen White en sus escrito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 ¿Es esta la descripción por la cual una mujer cristiana debe vivir o una promesa de su potencial? Explique su respuest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144880" y="647640"/>
            <a:ext cx="2657160" cy="1994040"/>
          </a:xfrm>
          <a:prstGeom prst="rect">
            <a:avLst/>
          </a:prstGeom>
          <a:ln w="0">
            <a:noFill/>
          </a:ln>
        </p:spPr>
      </p:sp>
      <p:sp>
        <p:nvSpPr>
          <p:cNvPr id="228" name="PlaceHolder 2"/>
          <p:cNvSpPr>
            <a:spLocks noGrp="1"/>
          </p:cNvSpPr>
          <p:nvPr>
            <p:ph type="body"/>
          </p:nvPr>
        </p:nvSpPr>
        <p:spPr>
          <a:xfrm>
            <a:off x="685800" y="2781000"/>
            <a:ext cx="5486400" cy="52131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SIÓN EN LA FAMI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o Espo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atrimonio, una de las perfectas creaciones de Dios, se destinaba a ser una bendición para la raza humana y para mejorar la vida de los casados (ST, 30 de agosto de 1899). En el matrimonio, el papel de la mujer es digno e importante, y ella ejerce gran influencia en la vida del marido. Ella es la compañera, su co-obrera y su igual (</a:t>
            </a:r>
            <a:r>
              <a:rPr b="0" i="1" lang="es-ES" sz="1200" spc="-1" strike="noStrike">
                <a:solidFill>
                  <a:srgbClr val="000000"/>
                </a:solidFill>
                <a:latin typeface="Arial"/>
              </a:rPr>
              <a:t>Christian Temperance and Bible Hygiene</a:t>
            </a:r>
            <a:r>
              <a:rPr b="0" lang="es-ES" sz="1200" spc="-1" strike="noStrike">
                <a:solidFill>
                  <a:srgbClr val="000000"/>
                </a:solidFill>
                <a:latin typeface="Arial"/>
              </a:rPr>
              <a:t>, p. 11). Ellen White instó a muchas mujeres cuyos maridos trabajaban para la iglesia a asociarse a ellos en sus tareas. Ella dejó claro que el ideal de Dios para el matrimonio es la sociedad en amor, en la cual cada uno respeta y coopera con el otro, debido al amor uno por el otro y por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954080" y="647640"/>
            <a:ext cx="2962440" cy="2222640"/>
          </a:xfrm>
          <a:prstGeom prst="rect">
            <a:avLst/>
          </a:prstGeom>
          <a:ln w="0">
            <a:noFill/>
          </a:ln>
        </p:spPr>
      </p:sp>
      <p:sp>
        <p:nvSpPr>
          <p:cNvPr id="230" name="PlaceHolder 2"/>
          <p:cNvSpPr>
            <a:spLocks noGrp="1"/>
          </p:cNvSpPr>
          <p:nvPr>
            <p:ph type="body"/>
          </p:nvPr>
        </p:nvSpPr>
        <p:spPr>
          <a:xfrm>
            <a:off x="685800" y="3009600"/>
            <a:ext cx="5486400" cy="49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dos personas que unen su interés en la vida tendrán distintas características y responsabilidades individuales. Cada uno tendrá su trabajo, pero no se ha de valorar a las mujeres por el trabajo que puedan hacer como se estiman las bestias de carga. La esposa ha de agraciar el círculo familiar como esposa y compañera de un esposo sabio. A cada paso debe ella preguntarse: "¿Es ésta la norma de la verdadera femineidad?" y: "¿Cómo haré para que mi influencia sea como la de Cristo en mi hogar?" El marido debe dejar saber a su esposa que él aprecia su trabajo.  Manuscrito 17, 1891.” </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075040" y="647640"/>
            <a:ext cx="2759040" cy="2070000"/>
          </a:xfrm>
          <a:prstGeom prst="rect">
            <a:avLst/>
          </a:prstGeom>
          <a:ln w="0">
            <a:noFill/>
          </a:ln>
        </p:spPr>
      </p:sp>
      <p:sp>
        <p:nvSpPr>
          <p:cNvPr id="232" name="PlaceHolder 2"/>
          <p:cNvSpPr>
            <a:spLocks noGrp="1"/>
          </p:cNvSpPr>
          <p:nvPr>
            <p:ph type="body"/>
          </p:nvPr>
        </p:nvSpPr>
        <p:spPr>
          <a:xfrm>
            <a:off x="685800" y="293328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sposa ha de respetar a su marido. El ha de amar y apreciarla a ella: y así como los une el voto matrimonial, su creencia en Cristo debe hacerlos uno en él. ¿Qué podría agradar más a Dios que el ver a los que contraen matrimonio procurar juntos aprender de Jesús y llegar a compenetrarse cada vez más de su Espíritu? (</a:t>
            </a:r>
            <a:r>
              <a:rPr b="0" i="1" lang="es-ES" sz="1200" spc="-1" strike="noStrike">
                <a:solidFill>
                  <a:srgbClr val="000000"/>
                </a:solidFill>
                <a:latin typeface="Arial"/>
              </a:rPr>
              <a:t>Hogar Cristiano</a:t>
            </a:r>
            <a:r>
              <a:rPr b="0" lang="es-ES" sz="1200" spc="-1" strike="noStrike">
                <a:solidFill>
                  <a:srgbClr val="000000"/>
                </a:solidFill>
                <a:latin typeface="Arial"/>
              </a:rPr>
              <a:t>, p. 99 [1899]).</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093760" y="647640"/>
            <a:ext cx="2659320" cy="1994040"/>
          </a:xfrm>
          <a:prstGeom prst="rect">
            <a:avLst/>
          </a:prstGeom>
          <a:ln w="0">
            <a:noFill/>
          </a:ln>
        </p:spPr>
      </p:sp>
      <p:sp>
        <p:nvSpPr>
          <p:cNvPr id="234" name="PlaceHolder 2"/>
          <p:cNvSpPr>
            <a:spLocks noGrp="1"/>
          </p:cNvSpPr>
          <p:nvPr>
            <p:ph type="body"/>
          </p:nvPr>
        </p:nvSpPr>
        <p:spPr>
          <a:xfrm>
            <a:off x="685800" y="2705040"/>
            <a:ext cx="5486400" cy="49881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Trebuchet MS"/>
              </a:rPr>
              <a:t>Ni el marido ni la mujer deben fundir su individualidad en la de su cónyuge. Cada cual tiene su relación personal con Dios. A él tiene que preguntarle cada uno: “</a:t>
            </a:r>
            <a:r>
              <a:rPr b="0" lang="es-ES" sz="1200" spc="-1" strike="noStrike">
                <a:solidFill>
                  <a:srgbClr val="000000"/>
                </a:solidFill>
                <a:latin typeface="Arial"/>
              </a:rPr>
              <a:t>¿Que es bueno? ¿Qué es malo? ¿Cómo cumpliré mejor el propósito de la vida?” Fluya el caudal del cariño de cada uno hacia Aquel que dio su vida por ellos. Considérese a Cristo el primero, el último y el mejor en todo. En la medida en que vuestro amor a Cristo se profundice y fortalezca, se purificará y fortalecerá vuestro amor mutuo</a:t>
            </a:r>
            <a:r>
              <a:rPr b="0" lang="es-ES" sz="1200" spc="-1" strike="noStrike">
                <a:solidFill>
                  <a:srgbClr val="000000"/>
                </a:solidFill>
                <a:latin typeface="Trebuchet MS"/>
              </a:rPr>
              <a:t>.” (</a:t>
            </a:r>
            <a:r>
              <a:rPr b="0" i="1" lang="es-ES" sz="1200" spc="-1" strike="noStrike">
                <a:solidFill>
                  <a:srgbClr val="000000"/>
                </a:solidFill>
                <a:latin typeface="Trebuchet MS"/>
              </a:rPr>
              <a:t>Ministerio de Curación</a:t>
            </a:r>
            <a:r>
              <a:rPr b="0" lang="es-ES" sz="1200" spc="-1" strike="noStrike">
                <a:solidFill>
                  <a:srgbClr val="000000"/>
                </a:solidFill>
                <a:latin typeface="Trebuchet MS"/>
              </a:rPr>
              <a:t>, p. 279)</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 de los papeles más valiosos de la esposa es el funcionamiento del hogar. Ellen White fue clara al decir que el deber de cada mujer debe administrar su hogar con eficiencia. Uno de los temas que ella instó con las mujeres ocupadas con los deberes domésticos, fue que no tuviesen la vida dictada por esos deberes. El hogar y los muebles deberían servir a la familia, y no ésta a ellos (ver Hogar Cristiano, p. 136). La esposa y madre no debería permitir que su familia la vea como una empleada cuyo propósito es apenas limpiar suciedad. Si sucede eso, pierde la dignidad que debería tener (HR, 1° de junio de 1877). Siendo así, ella debe usar la inteligencia con la mayor diligencia, organizando su tiempo y su trabajo a fin de que las horas no sean consumidas con limpieza (</a:t>
            </a:r>
            <a:r>
              <a:rPr b="0" i="1" lang="es-ES" sz="1200" spc="-1" strike="noStrike">
                <a:solidFill>
                  <a:srgbClr val="000000"/>
                </a:solidFill>
                <a:latin typeface="Arial"/>
              </a:rPr>
              <a:t>The Youth’s Instructor</a:t>
            </a:r>
            <a:r>
              <a:rPr b="0" lang="es-ES" sz="1200" spc="-1" strike="noStrike">
                <a:solidFill>
                  <a:srgbClr val="000000"/>
                </a:solidFill>
                <a:latin typeface="Arial"/>
              </a:rPr>
              <a:t>, 28 de enero de 18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92240" y="723960"/>
            <a:ext cx="2962440" cy="2222280"/>
          </a:xfrm>
          <a:prstGeom prst="rect">
            <a:avLst/>
          </a:prstGeom>
          <a:ln w="0">
            <a:noFill/>
          </a:ln>
        </p:spPr>
      </p:sp>
      <p:sp>
        <p:nvSpPr>
          <p:cNvPr id="236"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marL="22860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familia bien ordenada y disciplinada influye más en favor del cristianismo que todos los sermones que se puedan predicar. Una familia tal prueba que los padres han sabido seguir las instrucciones de Dios y que los hijos le servirán en la iglesia. La influencia de ellos aumenta; porque a medida que dan a otros, reciben para seguir dando. El padre y la madre hallan en sus hijos auxiliadores que comunican a otros la instrucción recibida en el hogar. El vecindario en el cual viven recibe ayuda, porque se enriquece para esta vida y para la eternidad. Hogar Cristiano, p. 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200" spc="-1" strike="noStrike">
                <a:solidFill>
                  <a:srgbClr val="000000"/>
                </a:solidFill>
                <a:latin typeface="Arial"/>
              </a:rPr>
              <a:t>Por qué eso era tan importante? Porque Ellen White pensaba que había una obra mejor y más importante en la cual las mujeres deberían estar volcadas. Los objetos, aunque necesarios y debiendo ser cuidados para que el hogar sea un lugar agradable donde vivir, no debería ser el todo en la vida de una mujer. Las mujeres deben dedicar sus esfuerzos también a las cosas eternas. Dios pretendía que las mujeres se envolviesen en la gran tarea de conquistar el mundo para Él, dentro y fuera de sus hogares. El primer deber más destacado en esa línea es el deber de la madre con sus hij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reguntas para Discusión:</a:t>
            </a:r>
            <a:r>
              <a:rPr b="0" lang="es-ES" sz="1200" spc="-1" strike="noStrike">
                <a:solidFill>
                  <a:srgbClr val="000000"/>
                </a:solidFill>
                <a:latin typeface="Arial"/>
              </a:rPr>
              <a:t> Lleve a las participantes del grupo a considerar las preguntas para discusión nº 2 en sus hojas. Establezca el tiempo para el trabajo con ese material. Seleccione a una persona de uno o más grupos (de acuerdo con el tiempo) para presentar un breve informe para el grupo en general.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685800" y="679320"/>
            <a:ext cx="5486400" cy="77090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Consideración nº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ara que fin, teniendo por base esas citas, Dios designó que hombre y mujer deben casarse? ¿Qué es lo importante para tener éxito en el matrimonio? ¿Cómo ayuda el matrimonio a propagar el evangel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uál es el valor del trabajo doméstico, de acuerdo con lo que estamos discutiendo y cuál es su peligro? ¿Cómo hacen las mujeres modernas para dirigir bien su hogar y también dedicar tiempo para las grandes t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o Mad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importancia del papel de la madre en la obra de Dios nunca debe ser subestimado. Ellen White lo comparó muchas veces con la de los ministros u otros obreros del evangelio (Ver </a:t>
            </a:r>
            <a:r>
              <a:rPr b="0" i="1" lang="es-ES" sz="1200" spc="-1" strike="noStrike">
                <a:solidFill>
                  <a:srgbClr val="000000"/>
                </a:solidFill>
                <a:latin typeface="Arial"/>
              </a:rPr>
              <a:t>Hogar Cristiano</a:t>
            </a:r>
            <a:r>
              <a:rPr b="0" lang="es-ES" sz="1200" spc="-1" strike="noStrike">
                <a:solidFill>
                  <a:srgbClr val="000000"/>
                </a:solidFill>
                <a:latin typeface="Arial"/>
              </a:rPr>
              <a:t>,206-218) a fin de enfatizar a los lectores que formar el carácter de los hijos es una cuestión de salvación. La educación de los hijos es un legado sagrado que no debe descuidarse bajo ninguna circunstancia. Dejar de educar a los hijos para ser cristianos porque está muy ocupada tratando de convertir a los otros, es faltar a su elevado llamado. La madre de un niño pequeño no debe aceptar ninguna responsabilidad externa y que a impida educar a los hijo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120760" y="679320"/>
            <a:ext cx="2921040" cy="2190960"/>
          </a:xfrm>
          <a:prstGeom prst="rect">
            <a:avLst/>
          </a:prstGeom>
          <a:ln w="0">
            <a:noFill/>
          </a:ln>
        </p:spPr>
      </p:sp>
      <p:sp>
        <p:nvSpPr>
          <p:cNvPr id="239" name="PlaceHolder 2"/>
          <p:cNvSpPr>
            <a:spLocks noGrp="1"/>
          </p:cNvSpPr>
          <p:nvPr>
            <p:ph type="body"/>
          </p:nvPr>
        </p:nvSpPr>
        <p:spPr>
          <a:xfrm>
            <a:off x="685800" y="3098520"/>
            <a:ext cx="5486400" cy="5289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ede muy bien decirse que los deberes distintivos de la mujer son más sagrados y más santos, que los del hombre. Comprenda ella el carácter sagrado de su obra y con la fuerza y el temor de Dios, emprenda su misión en la vida. Eduque a sus hijos para que sean útiles en este mundo y obtengan un hogar en el mundo mej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hristian Temperance and Bible Hygiene, p. 77(</a:t>
            </a:r>
            <a:r>
              <a:rPr b="0" i="1" lang="es-ES" sz="1200" spc="-1" strike="noStrike">
                <a:solidFill>
                  <a:srgbClr val="000000"/>
                </a:solidFill>
                <a:latin typeface="Arial"/>
              </a:rPr>
              <a:t>Hogar Cristiano</a:t>
            </a:r>
            <a:r>
              <a:rPr b="0" lang="es-ES" sz="1200" spc="-1" strike="noStrike">
                <a:solidFill>
                  <a:srgbClr val="000000"/>
                </a:solidFill>
                <a:latin typeface="Arial"/>
              </a:rPr>
              <a:t>, p. 206)</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030400" y="647640"/>
            <a:ext cx="2759040" cy="2070000"/>
          </a:xfrm>
          <a:prstGeom prst="rect">
            <a:avLst/>
          </a:prstGeom>
          <a:ln w="0">
            <a:noFill/>
          </a:ln>
        </p:spPr>
      </p:sp>
      <p:sp>
        <p:nvSpPr>
          <p:cNvPr id="188" name="PlaceHolder 2"/>
          <p:cNvSpPr>
            <a:spLocks noGrp="1"/>
          </p:cNvSpPr>
          <p:nvPr>
            <p:ph type="body"/>
          </p:nvPr>
        </p:nvSpPr>
        <p:spPr>
          <a:xfrm>
            <a:off x="685800" y="2822040"/>
            <a:ext cx="5486400" cy="5140440"/>
          </a:xfrm>
          <a:prstGeom prst="rect">
            <a:avLst/>
          </a:prstGeom>
          <a:noFill/>
          <a:ln w="0">
            <a:noFill/>
          </a:ln>
        </p:spPr>
        <p:txBody>
          <a:bodyPr lIns="91080" rIns="9108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ean lo que ella dijo:</a:t>
            </a:r>
            <a:r>
              <a:rPr b="0" lang="en-US" sz="1200" spc="-1" strike="noStrike">
                <a:solidFill>
                  <a:srgbClr val="000000"/>
                </a:solidFill>
                <a:latin typeface="Garamond"/>
              </a:rPr>
              <a:t> </a:t>
            </a:r>
            <a:r>
              <a:rPr b="1" lang="en-US" sz="1200" spc="-1" strike="noStrike">
                <a:solidFill>
                  <a:srgbClr val="000000"/>
                </a:solidFill>
                <a:latin typeface="Garamond"/>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a:t>
            </a:r>
            <a:r>
              <a:rPr b="0" lang="es-ES" sz="1200" spc="-1" strike="noStrike">
                <a:solidFill>
                  <a:srgbClr val="000000"/>
                </a:solidFill>
                <a:latin typeface="Trebuchet MS"/>
              </a:rPr>
              <a:t>Deberían designarse mujeres que estén dispuestas a consagrar parte de su tiempo al servicio del Señor ... deberíamos ampliar más nuestros métodos de trabajo. Ninguna mano debería ser impedida, ninguna alma debería ser desanimada, ninguna voz silenciad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986120" y="723960"/>
            <a:ext cx="2860560" cy="2146320"/>
          </a:xfrm>
          <a:prstGeom prst="rect">
            <a:avLst/>
          </a:prstGeom>
          <a:ln w="0">
            <a:noFill/>
          </a:ln>
        </p:spPr>
      </p:sp>
      <p:sp>
        <p:nvSpPr>
          <p:cNvPr id="241" name="PlaceHolder 2"/>
          <p:cNvSpPr>
            <a:spLocks noGrp="1"/>
          </p:cNvSpPr>
          <p:nvPr>
            <p:ph type="body"/>
          </p:nvPr>
        </p:nvSpPr>
        <p:spPr>
          <a:xfrm>
            <a:off x="685800" y="2933280"/>
            <a:ext cx="5486400" cy="5064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 rey en su trono no incumbe una obra superior a la de la madre. Esta es la reina de su familia. A ella le toca modelar el carácter de sus hijos, a fin de que sean idóneos para la vida superior e inmortal. Un ángel no podría pedir una misión más elevada; porque mientras realiza esta obra la madre está sirviendo a Dios. Si tan sólo comprende ella el alto carácter de su tarea, le inspirará valor. Percátese del valor de su obra y vístase de toda la armadura de Dios a fin de resistir a la tentación de conformarse con la norma del mundo. Ella obra para este tiempo y para la eternidad. </a:t>
            </a:r>
            <a:r>
              <a:rPr b="0" lang="es-ES" sz="1200" spc="-1" strike="noStrike">
                <a:solidFill>
                  <a:srgbClr val="000000"/>
                </a:solidFill>
                <a:latin typeface="Arial"/>
              </a:rPr>
              <a:t>	</a:t>
            </a:r>
            <a:r>
              <a:rPr b="0" lang="es-ES" sz="1200" spc="-1" strike="noStrike">
                <a:solidFill>
                  <a:srgbClr val="000000"/>
                </a:solidFill>
                <a:latin typeface="Arial"/>
              </a:rPr>
              <a:t>Signs of the Times, 16 de marzo de 18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Hogar Cristiano</a:t>
            </a:r>
            <a:r>
              <a:rPr b="0" lang="es-ES" sz="1200" spc="-1" strike="noStrike">
                <a:solidFill>
                  <a:srgbClr val="000000"/>
                </a:solidFill>
                <a:latin typeface="Arial"/>
              </a:rPr>
              <a:t>, pp. 206-207)</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030400" y="571680"/>
            <a:ext cx="2657520" cy="1993680"/>
          </a:xfrm>
          <a:prstGeom prst="rect">
            <a:avLst/>
          </a:prstGeom>
          <a:ln w="0">
            <a:noFill/>
          </a:ln>
        </p:spPr>
      </p:sp>
      <p:sp>
        <p:nvSpPr>
          <p:cNvPr id="243" name="PlaceHolder 2"/>
          <p:cNvSpPr>
            <a:spLocks noGrp="1"/>
          </p:cNvSpPr>
          <p:nvPr>
            <p:ph type="body"/>
          </p:nvPr>
        </p:nvSpPr>
        <p:spPr>
          <a:xfrm>
            <a:off x="685800" y="2628720"/>
            <a:ext cx="5486400" cy="506412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Trebuchet MS"/>
              </a:rPr>
              <a:t>“</a:t>
            </a:r>
            <a:r>
              <a:rPr b="0" lang="es-ES" sz="1200" spc="-1" strike="noStrike">
                <a:solidFill>
                  <a:srgbClr val="000000"/>
                </a:solidFill>
                <a:latin typeface="Trebuchet MS"/>
              </a:rPr>
              <a:t>Si Vd. pasa por alto su deber como esposa y madre, y extiende las manos para que el Señor le confíe otra clase de trabajo, tenga por seguro que él no se contradirá; le señala el deber que Vd. debe hacer en casa. Si Vd. piensa que le ha sido confiada alguna obra mayor y más santa, está equivocada. Siendo fiel en su hogar y trabajando por las almas de aquellos que están más cerca de Vd., puede obtener idoneidad para trabajar por Cristo en un campo más amplio. Pero tenga la seguridad de que quienes descuidan su deber en el círculo familiar no están preparados para trabajar en favor de otras almas.” </a:t>
            </a:r>
            <a:r>
              <a:rPr b="0" lang="es-ES" sz="1200" spc="-1" strike="noStrike">
                <a:solidFill>
                  <a:srgbClr val="000000"/>
                </a:solidFill>
                <a:latin typeface="Arial"/>
              </a:rPr>
              <a:t>Review and Herald, 15 de setiembre de 1891. (</a:t>
            </a:r>
            <a:r>
              <a:rPr b="0" i="1" lang="es-ES" sz="1200" spc="-1" strike="noStrike">
                <a:solidFill>
                  <a:srgbClr val="000000"/>
                </a:solidFill>
                <a:latin typeface="Arial"/>
              </a:rPr>
              <a:t>Hogar Cristiano</a:t>
            </a:r>
            <a:r>
              <a:rPr b="0" lang="es-ES" sz="1200" spc="-1" strike="noStrike">
                <a:solidFill>
                  <a:srgbClr val="000000"/>
                </a:solidFill>
                <a:latin typeface="Arial"/>
              </a:rPr>
              <a:t>, pp. 220-2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note algo sobre esta declaración. Mientras prioriza claramente los deberes del hogar para la esposa y madre, el motivo no es porque éstos sean los únicos deberes de la mujer. Antes, los deberes del hogar pueden capacitar mejor a la mujer para otro trabajo en una “esfera más amplia”. Por haber hecho su trabajo fielmente en el hogar, ella tiene la ventaja cuando llega la vez de testimoniar. Aunque la mujer cristiana deba ser fiel en su hogar y en la familia, no está confinada a ellos. O tal vez deberíamos decir que ella no se destina a confinar su influencia para el bien solamente a su familia. La visión de Ellen White parece ser la de que el lugar de la mujer es en hacer el bien para Dios en todo lugar que pase, dando prioridad a sus obligaciones. Si ella asumió las obligaciones de esposa y con la familia, éstas son, sin duda, su primera tarea. Pero no debe considerarlas su </a:t>
            </a:r>
            <a:r>
              <a:rPr b="0" i="1" lang="es-ES" sz="1200" spc="-1" strike="noStrike">
                <a:solidFill>
                  <a:srgbClr val="000000"/>
                </a:solidFill>
                <a:latin typeface="Arial"/>
              </a:rPr>
              <a:t>única</a:t>
            </a:r>
            <a:r>
              <a:rPr b="0" lang="es-ES" sz="1200" spc="-1" strike="noStrike">
                <a:solidFill>
                  <a:srgbClr val="000000"/>
                </a:solidFill>
                <a:latin typeface="Arial"/>
              </a:rPr>
              <a:t> tarea si Dios la lleva a realizar otras cosas tambié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878120" y="679320"/>
            <a:ext cx="3022560" cy="2266920"/>
          </a:xfrm>
          <a:prstGeom prst="rect">
            <a:avLst/>
          </a:prstGeom>
          <a:ln w="0">
            <a:noFill/>
          </a:ln>
        </p:spPr>
      </p:sp>
      <p:sp>
        <p:nvSpPr>
          <p:cNvPr id="245" name="PlaceHolder 2"/>
          <p:cNvSpPr>
            <a:spLocks noGrp="1"/>
          </p:cNvSpPr>
          <p:nvPr>
            <p:ph type="body"/>
          </p:nvPr>
        </p:nvSpPr>
        <p:spPr>
          <a:xfrm>
            <a:off x="685800" y="3009600"/>
            <a:ext cx="5486400" cy="50641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s-ES" sz="1200" spc="-1" strike="noStrike">
                <a:solidFill>
                  <a:srgbClr val="000000"/>
                </a:solidFill>
                <a:latin typeface="Arial"/>
              </a:rPr>
              <a:t>Las esposas y las madres, no deberían en ninguna circunstancia descuidar a sus esposos y a sus hijos, pero pueden realizar mucho sin descuidar las tareas del hogar y no todas tienen estas responsabilidades.  </a:t>
            </a:r>
            <a:r>
              <a:rPr b="0" lang="es-ES" sz="1200" spc="-1" strike="noStrike">
                <a:solidFill>
                  <a:srgbClr val="000000"/>
                </a:solidFill>
                <a:latin typeface="Arial"/>
              </a:rPr>
              <a:t>	</a:t>
            </a:r>
            <a:r>
              <a:rPr b="0" lang="es-ES" sz="1200" spc="-1" strike="noStrike">
                <a:solidFill>
                  <a:srgbClr val="000000"/>
                </a:solidFill>
                <a:latin typeface="Arial"/>
              </a:rPr>
              <a:t>ST, 16 de setiembre de 1889. </a:t>
            </a:r>
            <a:r>
              <a:rPr b="0"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Ministerio de la bondad</a:t>
            </a:r>
            <a:r>
              <a:rPr b="0" lang="es-ES" sz="1200" spc="-1" strike="noStrike">
                <a:solidFill>
                  <a:srgbClr val="000000"/>
                </a:solidFill>
                <a:latin typeface="Arial"/>
              </a:rPr>
              <a:t>, p. 17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158920" y="755640"/>
            <a:ext cx="2921040" cy="2190600"/>
          </a:xfrm>
          <a:prstGeom prst="rect">
            <a:avLst/>
          </a:prstGeom>
          <a:ln w="0">
            <a:noFill/>
          </a:ln>
        </p:spPr>
      </p:sp>
      <p:sp>
        <p:nvSpPr>
          <p:cNvPr id="247" name="PlaceHolder 2"/>
          <p:cNvSpPr>
            <a:spLocks noGrp="1"/>
          </p:cNvSpPr>
          <p:nvPr>
            <p:ph type="body"/>
          </p:nvPr>
        </p:nvSpPr>
        <p:spPr>
          <a:xfrm>
            <a:off x="685800" y="3009600"/>
            <a:ext cx="5486400" cy="5289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 esfera de utilidad que incumbe a la madre cristiana no debe quedar estrechada por su vida doméstica. La influencia saludable que ella ejerce en el círculo familiar puede hacerla sentir, y así lo hará, en una utilidad más amplia dentro de su vecindario y en la iglesia de Dios. El hogar no es una cárcel para la esposa y madre consagrada. Pacific Health Journal, junio de 1890. (</a:t>
            </a:r>
            <a:r>
              <a:rPr b="0" i="1" lang="es-ES" sz="1200" spc="-1" strike="noStrike">
                <a:solidFill>
                  <a:srgbClr val="000000"/>
                </a:solidFill>
                <a:latin typeface="Arial"/>
              </a:rPr>
              <a:t>Hogar Cristiano</a:t>
            </a:r>
            <a:r>
              <a:rPr b="0" lang="es-ES" sz="1200" spc="-1" strike="noStrike">
                <a:solidFill>
                  <a:srgbClr val="000000"/>
                </a:solidFill>
                <a:latin typeface="Arial"/>
              </a:rPr>
              <a:t>, p. 2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 dos esferas de utilidad se mencionan aquí – en la vecindad y en la iglesia. Ellen White veía a la mujer cristiana convertida como una misionera en la comunidad y como obrera en su ho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discusión:</a:t>
            </a:r>
            <a:r>
              <a:rPr b="0" lang="es-ES" sz="1200" spc="-1" strike="noStrike">
                <a:solidFill>
                  <a:srgbClr val="000000"/>
                </a:solidFill>
                <a:latin typeface="Arial"/>
              </a:rPr>
              <a:t> Lleve a las participantes del grupo a considerar la pregunta para discusión nº 3 en sus hojas. Elija una persona de uno o más grupos (de acuerdo con el tiempo) para presentar un breve informe para el grupo en 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Consideración nº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llen White da tamaño énfasis en la educación de los hijos? ¿Cómo está relacionada esa tarea con el evangelismo? Leemos que las mujeres no deben descuidar los deberes del hogar debido al envolvimiento en la iglesia, tampoco están limitadas a los deberes del hogar. ¿Cómo saber cuando esos deberes están en equilibrio?</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244600" y="419040"/>
            <a:ext cx="2662200" cy="1997280"/>
          </a:xfrm>
          <a:prstGeom prst="rect">
            <a:avLst/>
          </a:prstGeom>
          <a:ln w="0">
            <a:noFill/>
          </a:ln>
        </p:spPr>
      </p:sp>
      <p:sp>
        <p:nvSpPr>
          <p:cNvPr id="249" name="PlaceHolder 2"/>
          <p:cNvSpPr>
            <a:spLocks noGrp="1"/>
          </p:cNvSpPr>
          <p:nvPr>
            <p:ph type="body"/>
          </p:nvPr>
        </p:nvSpPr>
        <p:spPr>
          <a:xfrm>
            <a:off x="761760" y="2476080"/>
            <a:ext cx="5562360" cy="5892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MISSÃO NO MU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sa obra missionária não se destina a ser influência apenas de uma vida boa - Ellen White visionava a ação missionária deliberada e cuidadosa na vizinhança. Esse chamado ou ministério deve ser considerado com serie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len White advogava a instrução e a organização para que as mulheres pudessem propagar o evangelho. Ela fala de grupos regulares organizados, instruídos inteligentemente. Isso significa que ela visionava um esforço cooperativo. Nos dias de Ellen White, as mulheres se reuniam em grupos de oração e nas sociedades missionárias e de folhetos, enviando cartas e literatura a indivíduos por quem sentiam preocupação. Nesses grupos, as mulheres normalmente informavam o que fizeram desde a última reunião a fim de testemunharem às outras. Era também uma oportunidade para perguntas e encoraja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Um Trabalho Especial para as Mulh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len White cria que as mulheres tinham vantagens ímpares para alcançar outras pessoas. Seu propósito era que as mulheres usassem seus dons especiais para conquistar outros para Cristo. Por exemplo, o acesso que as mulheres têm às famílias pode ser usado como meio para o ministério pessoal. A mulher pode mais facilmente se aproximar de outra mulher, usando assuntos domésticos como “cunha de penetração”, e fazer amizades por meio dessa abordag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a também pode oferecer ajuda doméstica ou acompanhamento ou ajudar a alguma família que passa por circunstâncias difíceis. No testemunho aos vizinhos, Ellen White modelou-lhes a abordagem, primeiro fazendo amizade e então os ajudando em suas necessidades. Casada ou solteira, a mulher é uma ponte natural para fazer amizades por seu interesse pelo lar e família das outras mulheres. Ellen White cria que essa ponte era uma valiosa ferramenta para estabelecer os relacionamentos e alcançar os corações. Quando um vizinho ajuda o outro, ou uma mulher ajuda outra mulher e as famílias, as mulheres cristãs acabam conhecendo pessoas que não estariam ao alcance do pastor. Ao atender às necessidades das pessoas, ela estabelece um laço que lhe propicia exercer grande influência sobre as pessoas. Desta forma, quando começa a partilhar sua fé, essas pessoas estão muito mais dispostas a ouvir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257560" y="603360"/>
            <a:ext cx="2722320" cy="2041560"/>
          </a:xfrm>
          <a:prstGeom prst="rect">
            <a:avLst/>
          </a:prstGeom>
          <a:ln w="0">
            <a:noFill/>
          </a:ln>
        </p:spPr>
      </p:sp>
      <p:sp>
        <p:nvSpPr>
          <p:cNvPr id="251" name="PlaceHolder 2"/>
          <p:cNvSpPr>
            <a:spLocks noGrp="1"/>
          </p:cNvSpPr>
          <p:nvPr>
            <p:ph type="body"/>
          </p:nvPr>
        </p:nvSpPr>
        <p:spPr>
          <a:xfrm>
            <a:off x="685800" y="2704680"/>
            <a:ext cx="5486400" cy="5289480"/>
          </a:xfrm>
          <a:prstGeom prst="rect">
            <a:avLst/>
          </a:prstGeom>
          <a:noFill/>
          <a:ln w="0">
            <a:noFill/>
          </a:ln>
        </p:spPr>
        <p:txBody>
          <a:bodyPr lIns="91080" rIns="91080" tIns="45360" bIns="4536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es-ES" sz="1200" spc="-1" strike="noStrike">
                <a:solidFill>
                  <a:srgbClr val="000000"/>
                </a:solidFill>
                <a:latin typeface="Arial"/>
              </a:rPr>
              <a:t>Necesitamos grandemente mujeres consagradas que, como mensajeras de misericordia visiten a las madres y a los niños en sus hogares y les ayuden en las tareas diarias del hogar, si fuera necesario, antes de comenzar a hablarles acerca de la verdad para este tiempo. Encontraréis que por este método tendréis almas como resultado de vuestro ministerio (Review and Herald, 12-7-1906). “</a:t>
            </a:r>
            <a:r>
              <a:rPr b="0" lang="es-ES" sz="1000" spc="-1" strike="noStrike">
                <a:solidFill>
                  <a:srgbClr val="000000"/>
                </a:solidFill>
                <a:latin typeface="Trebuchet MS"/>
              </a:rPr>
              <a:t>(</a:t>
            </a:r>
            <a:r>
              <a:rPr b="0" i="1" lang="es-ES" sz="1000" spc="-1" strike="noStrike">
                <a:solidFill>
                  <a:srgbClr val="000000"/>
                </a:solidFill>
                <a:latin typeface="Trebuchet MS"/>
              </a:rPr>
              <a:t>Ministerio de la Bondad</a:t>
            </a:r>
            <a:r>
              <a:rPr b="0" lang="es-ES" sz="1000" spc="-1" strike="noStrike">
                <a:solidFill>
                  <a:srgbClr val="000000"/>
                </a:solidFill>
                <a:latin typeface="Trebuchet MS"/>
              </a:rPr>
              <a:t>, 152)</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004840" y="647640"/>
            <a:ext cx="2657520" cy="1994040"/>
          </a:xfrm>
          <a:prstGeom prst="rect">
            <a:avLst/>
          </a:prstGeom>
          <a:ln w="0">
            <a:noFill/>
          </a:ln>
        </p:spPr>
      </p:sp>
      <p:sp>
        <p:nvSpPr>
          <p:cNvPr id="253" name="PlaceHolder 2"/>
          <p:cNvSpPr>
            <a:spLocks noGrp="1"/>
          </p:cNvSpPr>
          <p:nvPr>
            <p:ph type="body"/>
          </p:nvPr>
        </p:nvSpPr>
        <p:spPr>
          <a:xfrm>
            <a:off x="685800" y="270468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hermanas pueden hacer mucho para alcanzar los corazones y enternecerles. Dondequiera que estéis, mis hermanas, trabajad con sencillez. Si estáis en un hogar donde hay niños, demostrad interés en ellos. Vean ellos que los amáis. Si uno está enfermo, ofreceos para darle un tratamiento; ayudad a la angustiada y ansiosa madre a aliviar a su doliente hijo. Review and Herald, 11 de noviembre de 190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i="1" lang="es-ES" sz="1200" spc="-1" strike="noStrike">
                <a:solidFill>
                  <a:srgbClr val="000000"/>
                </a:solidFill>
                <a:latin typeface="Arial"/>
              </a:rPr>
              <a:t>Ministerio de la bondad</a:t>
            </a:r>
            <a:r>
              <a:rPr b="0" lang="es-ES" sz="1200" spc="-1" strike="noStrike">
                <a:solidFill>
                  <a:srgbClr val="000000"/>
                </a:solidFill>
                <a:latin typeface="Arial"/>
              </a:rPr>
              <a:t>, p. 169-170)</a:t>
            </a:r>
            <a:r>
              <a:rPr b="0" lang="es-ES" sz="1200" spc="-1" strike="noStrike">
                <a:solidFill>
                  <a:srgbClr val="000000"/>
                </a:solidFill>
                <a:latin typeface="Trebuchet MS"/>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035080" y="876240"/>
            <a:ext cx="2760840" cy="2070000"/>
          </a:xfrm>
          <a:prstGeom prst="rect">
            <a:avLst/>
          </a:prstGeom>
          <a:ln w="0">
            <a:noFill/>
          </a:ln>
        </p:spPr>
      </p:sp>
      <p:sp>
        <p:nvSpPr>
          <p:cNvPr id="255"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tiene una obra tanto para las mujeres como para los hombres. Ellas pueden ocupar sus lugares en la obra de Dios en esta crisis y él trabajará por medio de ellas. Si están imbuidas con el sentido de su deber y trabajan bajo la influencia del Espíritu Santo, tendrán precisamente el dominio propio que se requiere para este tiempo. El Salvador reflejará sobre estas abnegadas mujeres la luz de su semblante y les dará un poder que sobrepuje al de los hombres. Pueden hacer en las familias una obra que los hombres no pueden hacer, una obra que llega hasta la vida íntima. Pueden acercarse al corazón de aquellas personas a las cuales los hombres no pueden llegar. Se necesita su obra (Review and Herald, 26-8-1902).” (</a:t>
            </a:r>
            <a:r>
              <a:rPr b="0" i="1" lang="es-ES" sz="1200" spc="-1" strike="noStrike">
                <a:solidFill>
                  <a:srgbClr val="000000"/>
                </a:solidFill>
                <a:latin typeface="Arial"/>
              </a:rPr>
              <a:t>Ministerio de la bondad, </a:t>
            </a:r>
            <a:r>
              <a:rPr b="0" lang="es-ES" sz="1200" spc="-1" strike="noStrike">
                <a:solidFill>
                  <a:srgbClr val="000000"/>
                </a:solidFill>
                <a:latin typeface="Arial"/>
              </a:rPr>
              <a:t>p. 151)</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043000" y="723960"/>
            <a:ext cx="2759040" cy="2070000"/>
          </a:xfrm>
          <a:prstGeom prst="rect">
            <a:avLst/>
          </a:prstGeom>
          <a:ln w="0">
            <a:noFill/>
          </a:ln>
        </p:spPr>
      </p:sp>
      <p:sp>
        <p:nvSpPr>
          <p:cNvPr id="257" name="PlaceHolder 2"/>
          <p:cNvSpPr>
            <a:spLocks noGrp="1"/>
          </p:cNvSpPr>
          <p:nvPr>
            <p:ph type="body"/>
          </p:nvPr>
        </p:nvSpPr>
        <p:spPr>
          <a:xfrm>
            <a:off x="685800" y="2857680"/>
            <a:ext cx="5486400" cy="5486400"/>
          </a:xfrm>
          <a:prstGeom prst="rect">
            <a:avLst/>
          </a:prstGeom>
          <a:noFill/>
          <a:ln w="0">
            <a:noFill/>
          </a:ln>
        </p:spPr>
        <p:txBody>
          <a:bodyPr lIns="91080" rIns="91080" tIns="45360" bIns="4536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arecemos de acciones de simpatía y de benevolencia en el ministerio consagrado y social al necesitado, oprimido y sufriente. Se necesitan  mujeres que puedan trabajar ahora, mujeres que no son presuntuosas, sino humildes y no pretenciosas de corazón, y que trabajarán con la humildad de Cristo donde quiera que encuentren trabajo a ser hecho por la salvación de las almas.</a:t>
            </a:r>
            <a:r>
              <a:rPr b="0" lang="es-ES" sz="1200" spc="-1" strike="noStrike">
                <a:solidFill>
                  <a:srgbClr val="000000"/>
                </a:solidFill>
                <a:latin typeface="Arial"/>
              </a:rPr>
              <a:t>	</a:t>
            </a:r>
            <a:r>
              <a:rPr b="0" lang="es-ES" sz="1200" spc="-1" strike="noStrike">
                <a:solidFill>
                  <a:srgbClr val="000000"/>
                </a:solidFill>
                <a:latin typeface="Arial"/>
              </a:rPr>
              <a:t>Review and Herald, 2 de enero de 1879.” (</a:t>
            </a:r>
            <a:r>
              <a:rPr b="0" i="1" lang="es-ES" sz="1200" spc="-1" strike="noStrike">
                <a:solidFill>
                  <a:srgbClr val="000000"/>
                </a:solidFill>
                <a:latin typeface="Arial"/>
              </a:rPr>
              <a:t>Daughters of God, p.</a:t>
            </a:r>
            <a:r>
              <a:rPr b="0" lang="es-ES" sz="1200" spc="-1" strike="noStrike">
                <a:solidFill>
                  <a:srgbClr val="000000"/>
                </a:solidFill>
                <a:latin typeface="Arial"/>
              </a:rPr>
              <a:t> 19)</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de ministrar a la familia, las mujeres tienen la capacidad especial de testimoniar a otras mujeres y de ayudarlas en su experiencia cristiana. Por ese motivo, Ellen White instó muchas veces a las esposas de obreros de la iglesia a trabajar junto con ellos a fin de que las mujeres y las familias pudiesen ser alcanzadas más efectivamente (Carta 142, 1909). En el evangelismo, la mujer tiene la ventaja de comunicarse con otra mujer y de comprenderla más fácilmente y de conquistarle la confianza más rápidamente. Como mujer, puede organizar y capacitar a otras mujeres, aconsejar a las que pasan por dificultades y hacer el papel de madre, hermana y hasta de hija para ellas. Ella puede establecer relaciones más íntimas que un hombr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discusión:</a:t>
            </a:r>
            <a:r>
              <a:rPr b="0" lang="es-ES" sz="1200" spc="-1" strike="noStrike">
                <a:solidFill>
                  <a:srgbClr val="000000"/>
                </a:solidFill>
                <a:latin typeface="Arial"/>
              </a:rPr>
              <a:t> Lleve a las participantes del grupo a considerar la pregunta para discusión nº 4 en sus hojas. Invite a una persona de uno o más grupos (de acuerdo con el tiempo) para presentar un breve informe para el grupo en general.</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 para Considerar nº 4</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000" spc="-1" strike="noStrike">
                <a:solidFill>
                  <a:srgbClr val="000000"/>
                </a:solidFill>
                <a:latin typeface="Arial"/>
              </a:rPr>
              <a:t>¿</a:t>
            </a:r>
            <a:r>
              <a:rPr b="0" lang="es-ES" sz="1200" spc="-1" strike="noStrike">
                <a:solidFill>
                  <a:srgbClr val="000000"/>
                </a:solidFill>
                <a:latin typeface="Arial"/>
              </a:rPr>
              <a:t>En qué áreas la mujer de hoy tiene ventaja sobre los ministros al alcanzar individuos? </a:t>
            </a:r>
            <a:r>
              <a:rPr b="0" lang="es-ES" sz="1000" spc="-1" strike="noStrike">
                <a:solidFill>
                  <a:srgbClr val="000000"/>
                </a:solidFill>
                <a:latin typeface="Arial"/>
              </a:rPr>
              <a:t>¿</a:t>
            </a:r>
            <a:r>
              <a:rPr b="0" lang="es-ES" sz="1200" spc="-1" strike="noStrike">
                <a:solidFill>
                  <a:srgbClr val="000000"/>
                </a:solidFill>
                <a:latin typeface="Arial"/>
              </a:rPr>
              <a:t>Qué tipo de actos de servicio podría hacer por los vecinos? </a:t>
            </a:r>
            <a:r>
              <a:rPr b="0" lang="es-ES" sz="1000" spc="-1" strike="noStrike">
                <a:solidFill>
                  <a:srgbClr val="000000"/>
                </a:solidFill>
                <a:latin typeface="Arial"/>
              </a:rPr>
              <a:t>¿C</a:t>
            </a:r>
            <a:r>
              <a:rPr b="0" lang="es-ES" sz="1200" spc="-1" strike="noStrike">
                <a:solidFill>
                  <a:srgbClr val="000000"/>
                </a:solidFill>
                <a:latin typeface="Arial"/>
              </a:rPr>
              <a:t>ómo ese principio puede llevarse al lugar de trabajo?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962000" y="723960"/>
            <a:ext cx="2656080" cy="1993680"/>
          </a:xfrm>
          <a:prstGeom prst="rect">
            <a:avLst/>
          </a:prstGeom>
          <a:ln w="0">
            <a:noFill/>
          </a:ln>
        </p:spPr>
      </p:sp>
      <p:sp>
        <p:nvSpPr>
          <p:cNvPr id="259" name="PlaceHolder 2"/>
          <p:cNvSpPr>
            <a:spLocks noGrp="1"/>
          </p:cNvSpPr>
          <p:nvPr>
            <p:ph type="body"/>
          </p:nvPr>
        </p:nvSpPr>
        <p:spPr>
          <a:xfrm>
            <a:off x="685800" y="2857680"/>
            <a:ext cx="5486400" cy="5140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omar parte en la Ob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mos antes que hay dos esferas en las cuales Ellen White creía que las mujeres debían ejercer su influencia fuera del hogar. Una era la obra misionera. La otra es en el servicio para la iglesia. Las mujeres, como también los hombres, son necesarios en el organismo principal del trabajo de la iglesia, apoyando todos los niveles del liderazgo para que sea más eficient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057400" y="723960"/>
            <a:ext cx="2722680" cy="2041560"/>
          </a:xfrm>
          <a:prstGeom prst="rect">
            <a:avLst/>
          </a:prstGeom>
          <a:ln w="0">
            <a:noFill/>
          </a:ln>
        </p:spPr>
      </p:sp>
      <p:sp>
        <p:nvSpPr>
          <p:cNvPr id="190" name="PlaceHolder 2"/>
          <p:cNvSpPr>
            <a:spLocks noGrp="1"/>
          </p:cNvSpPr>
          <p:nvPr>
            <p:ph type="body"/>
          </p:nvPr>
        </p:nvSpPr>
        <p:spPr>
          <a:xfrm>
            <a:off x="685800" y="2978280"/>
            <a:ext cx="5486400" cy="55180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cada individuo pueda trabajar, particularmente o en público, para apresurar esta gran obra. Que sea puesta sobre hombres y mujeres de la iglesia la responsabilidad para que puedan crecer por el ejercicio y así convertirse en agentes eficientes en las manos del Señor para iluminar a los que están en las tiniebl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Review and Herald, 9 de julio de 1895. </a:t>
            </a:r>
            <a:r>
              <a:rPr b="0" lang="en-US" sz="1200" spc="-1" strike="noStrike">
                <a:solidFill>
                  <a:srgbClr val="000000"/>
                </a:solidFill>
                <a:latin typeface="Arial"/>
              </a:rPr>
              <a:t>(</a:t>
            </a:r>
            <a:r>
              <a:rPr b="0" i="1" lang="en-US" sz="1200" spc="-1" strike="noStrike">
                <a:solidFill>
                  <a:srgbClr val="000000"/>
                </a:solidFill>
                <a:latin typeface="Arial"/>
              </a:rPr>
              <a:t>Daughters of God</a:t>
            </a:r>
            <a:r>
              <a:rPr b="0" lang="en-US" sz="1200" spc="-1" strike="noStrike">
                <a:solidFill>
                  <a:srgbClr val="000000"/>
                </a:solidFill>
                <a:latin typeface="Arial"/>
              </a:rPr>
              <a:t>, p. 102)</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120760" y="755640"/>
            <a:ext cx="2921040" cy="2190600"/>
          </a:xfrm>
          <a:prstGeom prst="rect">
            <a:avLst/>
          </a:prstGeom>
          <a:ln w="0">
            <a:noFill/>
          </a:ln>
        </p:spPr>
      </p:sp>
      <p:sp>
        <p:nvSpPr>
          <p:cNvPr id="261"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Cuando ha de realizarse una obra grande y decisiva, Dios escoge a hombres y mujeres para hacer su obra, y esta obra sentirá la pérdida si los talentos de ambas clases no son combinados (Carta 77, 1898).”  (</a:t>
            </a:r>
            <a:r>
              <a:rPr b="0" i="1" lang="es-ES" sz="1200" spc="-1" strike="noStrike">
                <a:solidFill>
                  <a:srgbClr val="000000"/>
                </a:solidFill>
                <a:latin typeface="Arial"/>
              </a:rPr>
              <a:t>Evangelismo</a:t>
            </a:r>
            <a:r>
              <a:rPr b="0" lang="es-ES" sz="1200" spc="-1" strike="noStrike">
                <a:solidFill>
                  <a:srgbClr val="000000"/>
                </a:solidFill>
                <a:latin typeface="Arial"/>
              </a:rPr>
              <a:t>, p. 343)</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Dios creó hombres y mujeres a su imagen, también adecuó a ambos para representarlo al mundo caído. Ellen White vio mujeres comprometidas en todas las áreas de la misión de la iglesia, especialmente en la acción misionera. Con tanto trabajo a realizarse, ella valorizó grandemente el arduo trabajo de las mujeres en las brechas donde los ministros no podían ir o penetrar para realizar la obra necesaria. En muchos casos, este es el trabajo visitando las casas, lo cual ella consideraba menos agradable y más exigente que el ministerio público, sin embargo muchas veces, más productivo. (Manuscrito 149, 1899; 5MR 325, 326; Carta 95, 1896.)</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917720" y="679320"/>
            <a:ext cx="3327480" cy="2495520"/>
          </a:xfrm>
          <a:prstGeom prst="rect">
            <a:avLst/>
          </a:prstGeom>
          <a:ln w="0">
            <a:noFill/>
          </a:ln>
        </p:spPr>
      </p:sp>
      <p:sp>
        <p:nvSpPr>
          <p:cNvPr id="263" name="PlaceHolder 2"/>
          <p:cNvSpPr>
            <a:spLocks noGrp="1"/>
          </p:cNvSpPr>
          <p:nvPr>
            <p:ph type="body"/>
          </p:nvPr>
        </p:nvSpPr>
        <p:spPr>
          <a:xfrm>
            <a:off x="685800" y="3238560"/>
            <a:ext cx="5486400" cy="4911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mujeres que debieran trabajar en el ministerio evangélico. En muchos sentidos harían mayor bien que los ministros que no visitan como deben la grey de Di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uscrito 43a, 1898.”</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994040" y="755640"/>
            <a:ext cx="3022560" cy="2266920"/>
          </a:xfrm>
          <a:prstGeom prst="rect">
            <a:avLst/>
          </a:prstGeom>
          <a:ln w="0">
            <a:noFill/>
          </a:ln>
        </p:spPr>
      </p:sp>
      <p:sp>
        <p:nvSpPr>
          <p:cNvPr id="265" name="PlaceHolder 2"/>
          <p:cNvSpPr>
            <a:spLocks noGrp="1"/>
          </p:cNvSpPr>
          <p:nvPr>
            <p:ph type="body"/>
          </p:nvPr>
        </p:nvSpPr>
        <p:spPr>
          <a:xfrm>
            <a:off x="685800" y="3174840"/>
            <a:ext cx="5486400" cy="5213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Hay mujeres que están especialmente adaptadas para el trabajo de dar estudios bíblicos y tienen mucho éxito al presentar la Palabra de Dios en su sencillez a otros. Se convierten en una gran bendición al alcanzar a madres y sus hijas. Es una sagrada tarea, y las que se empeñen en ella deben recibir estímulo (Carta 108, 1910).” (</a:t>
            </a:r>
            <a:r>
              <a:rPr b="0" i="1" lang="es-ES" sz="1200" spc="-1" strike="noStrike">
                <a:solidFill>
                  <a:srgbClr val="000000"/>
                </a:solidFill>
                <a:latin typeface="Arial"/>
              </a:rPr>
              <a:t>Ministerio de la bondad</a:t>
            </a:r>
            <a:r>
              <a:rPr b="0" lang="es-ES" sz="1200" spc="-1" strike="noStrike">
                <a:solidFill>
                  <a:srgbClr val="000000"/>
                </a:solidFill>
                <a:latin typeface="Arial"/>
              </a:rPr>
              <a:t>, p. 167)</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133720" y="831960"/>
            <a:ext cx="2819160" cy="2114280"/>
          </a:xfrm>
          <a:prstGeom prst="rect">
            <a:avLst/>
          </a:prstGeom>
          <a:ln w="0">
            <a:noFill/>
          </a:ln>
        </p:spPr>
      </p:sp>
      <p:sp>
        <p:nvSpPr>
          <p:cNvPr id="267" name="PlaceHolder 2"/>
          <p:cNvSpPr>
            <a:spLocks noGrp="1"/>
          </p:cNvSpPr>
          <p:nvPr>
            <p:ph type="body"/>
          </p:nvPr>
        </p:nvSpPr>
        <p:spPr>
          <a:xfrm>
            <a:off x="685800" y="3009600"/>
            <a:ext cx="5486400" cy="521316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 las variadas ramas de la causa de Dios hay un amplio campo en el cual nuestras hermanas pueden rendir un buen servicio para el Maestro. Muchos ramos de trabajo misionero son descuidados. En las diferentes iglesias, mucho trabajo que se deja sin hacer, o que se hace imperfectamente, podría realizarse bien con la ayuda de nuestras hermanas, si son debidamente instruida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017800" y="755640"/>
            <a:ext cx="3124080" cy="2343240"/>
          </a:xfrm>
          <a:prstGeom prst="rect">
            <a:avLst/>
          </a:prstGeom>
          <a:ln w="0">
            <a:noFill/>
          </a:ln>
        </p:spPr>
      </p:sp>
      <p:sp>
        <p:nvSpPr>
          <p:cNvPr id="269" name="PlaceHolder 2"/>
          <p:cNvSpPr>
            <a:spLocks noGrp="1"/>
          </p:cNvSpPr>
          <p:nvPr>
            <p:ph type="body"/>
          </p:nvPr>
        </p:nvSpPr>
        <p:spPr>
          <a:xfrm>
            <a:off x="685440" y="3162240"/>
            <a:ext cx="5638680" cy="498816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Por medio de los diversos ramos del esfuerzo misionero local, ellas pueden alcanzar una clase de personas a las cuales no llegan nuestros pastores. Entre las nobles mujeres que tuvieron el valor moral de decidirse en favor de la verdad para este tiempo, se encuentran muchas que tienen tacto, percepción y habilidad, y que pueden llegar a ser obreras de éxito. Se necesitan las labores de tales mujeres cristianas (Review and Herald, 10 de diciembre, 1914).”</a:t>
            </a:r>
            <a:r>
              <a:rPr b="1"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Evangelismo</a:t>
            </a:r>
            <a:r>
              <a:rPr b="0" lang="es-ES" sz="1200" spc="-1" strike="noStrike">
                <a:solidFill>
                  <a:srgbClr val="000000"/>
                </a:solidFill>
                <a:latin typeface="Arial"/>
              </a:rPr>
              <a:t>, p. 3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un agregado, ella pensaba que había mujeres con talentos especiales para tareas como el testimonio personal, como obrera bíblica, visitación y ministerio público. Sus declaraciones son instructivas para nosotro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082960" y="755640"/>
            <a:ext cx="2920680" cy="2190600"/>
          </a:xfrm>
          <a:prstGeom prst="rect">
            <a:avLst/>
          </a:prstGeom>
          <a:ln w="0">
            <a:noFill/>
          </a:ln>
        </p:spPr>
      </p:sp>
      <p:sp>
        <p:nvSpPr>
          <p:cNvPr id="271"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Review and Herald, 2 de enero, 1879).”  (</a:t>
            </a:r>
            <a:r>
              <a:rPr b="0" i="1" lang="es-ES" sz="1200" spc="-1" strike="noStrike">
                <a:solidFill>
                  <a:srgbClr val="000000"/>
                </a:solidFill>
                <a:latin typeface="Arial"/>
              </a:rPr>
              <a:t>Evangelismo</a:t>
            </a:r>
            <a:r>
              <a:rPr b="0" lang="es-ES" sz="1200" spc="-1" strike="noStrike">
                <a:solidFill>
                  <a:srgbClr val="000000"/>
                </a:solidFill>
                <a:latin typeface="Arial"/>
              </a:rPr>
              <a:t>, pp. 3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 la influencia refinadora y suavizadora de las mujeres cristianas se necesita en la gran obra de predicar la verdad ahora.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l Señor de la viña está diciendo a muchas mujeres que ahora no hacen nada: "¿Por qué estáis aquí todo el día ociosas?" ... El celo y la diligencia continuos en la causa de Dios tendrían un pleno éxito y asombrarían con sus resultados.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197080" y="755640"/>
            <a:ext cx="2921040" cy="2190600"/>
          </a:xfrm>
          <a:prstGeom prst="rect">
            <a:avLst/>
          </a:prstGeom>
          <a:ln w="0">
            <a:noFill/>
          </a:ln>
        </p:spPr>
      </p:sp>
      <p:sp>
        <p:nvSpPr>
          <p:cNvPr id="273" name="PlaceHolder 2"/>
          <p:cNvSpPr>
            <a:spLocks noGrp="1"/>
          </p:cNvSpPr>
          <p:nvPr>
            <p:ph type="body"/>
          </p:nvPr>
        </p:nvSpPr>
        <p:spPr>
          <a:xfrm>
            <a:off x="685800" y="3009600"/>
            <a:ext cx="5486400" cy="514044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l Señor de la viña está diciendo a muchas mujeres que ahora no hacen nada: "¿Por qué estáis aquí todo el día ociosas?" ... El celo y la diligencia continuos en la causa de Dios tendrían un pleno éxito y asombrarían con sus resultados.” (</a:t>
            </a:r>
            <a:r>
              <a:rPr b="0" i="1" lang="es-ES" sz="1200" spc="-1" strike="noStrike">
                <a:solidFill>
                  <a:srgbClr val="000000"/>
                </a:solidFill>
                <a:latin typeface="Arial"/>
              </a:rPr>
              <a:t>Ministerio de la bondad</a:t>
            </a:r>
            <a:r>
              <a:rPr b="0" lang="es-ES" sz="1200" spc="-1" strike="noStrike">
                <a:solidFill>
                  <a:srgbClr val="000000"/>
                </a:solidFill>
                <a:latin typeface="Arial"/>
              </a:rPr>
              <a:t>, p. 152)</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943280" y="679320"/>
            <a:ext cx="3124080" cy="2343240"/>
          </a:xfrm>
          <a:prstGeom prst="rect">
            <a:avLst/>
          </a:prstGeom>
          <a:ln w="0">
            <a:noFill/>
          </a:ln>
        </p:spPr>
      </p:sp>
      <p:sp>
        <p:nvSpPr>
          <p:cNvPr id="275" name="PlaceHolder 2"/>
          <p:cNvSpPr>
            <a:spLocks noGrp="1"/>
          </p:cNvSpPr>
          <p:nvPr>
            <p:ph type="body"/>
          </p:nvPr>
        </p:nvSpPr>
        <p:spPr>
          <a:xfrm>
            <a:off x="685800" y="3085920"/>
            <a:ext cx="5486400" cy="506412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200" spc="-1" strike="noStrike">
                <a:solidFill>
                  <a:srgbClr val="000000"/>
                </a:solidFill>
                <a:latin typeface="Arial"/>
              </a:rPr>
              <a:t>Hay que elegir para la obra a hombres sabios y consagrados que puedan realizar un buen trabajo en la tarea de alcanzar a las almas. También debiera elegirse a mujeres que puedan presentar la verdad en forma clara, inteligente y directa. Necesitamos obreros que comprendan la necesidad de que en los corazones se realice una obra de la gracia más profunda; a los tales habría que animarlos a dedicarse a un fervoroso esfuerzo misionero. Carta 54, 1909.” (</a:t>
            </a:r>
            <a:r>
              <a:rPr b="0" i="1" lang="es-ES" sz="1200" spc="-1" strike="noStrike">
                <a:solidFill>
                  <a:srgbClr val="000000"/>
                </a:solidFill>
                <a:latin typeface="Arial"/>
              </a:rPr>
              <a:t>Evangelismo</a:t>
            </a:r>
            <a:r>
              <a:rPr b="0" lang="es-ES" sz="1200" spc="-1" strike="noStrike">
                <a:solidFill>
                  <a:srgbClr val="000000"/>
                </a:solidFill>
                <a:latin typeface="Arial"/>
              </a:rPr>
              <a:t>, p. 345)</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854360" y="679320"/>
            <a:ext cx="3225600" cy="2419560"/>
          </a:xfrm>
          <a:prstGeom prst="rect">
            <a:avLst/>
          </a:prstGeom>
          <a:ln w="0">
            <a:noFill/>
          </a:ln>
        </p:spPr>
      </p:sp>
      <p:sp>
        <p:nvSpPr>
          <p:cNvPr id="277" name="PlaceHolder 2"/>
          <p:cNvSpPr>
            <a:spLocks noGrp="1"/>
          </p:cNvSpPr>
          <p:nvPr>
            <p:ph type="body"/>
          </p:nvPr>
        </p:nvSpPr>
        <p:spPr>
          <a:xfrm>
            <a:off x="685800" y="3162240"/>
            <a:ext cx="5486400" cy="49118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Las hermanas R y W están haciendo una obra tan eficaz como la de los pastores; y en algunas reuniones, cuando todos los pastores han tenido que salir, la hermana W toma la Biblia y se dirige a la congregación (Carta 169, 1900).”  (</a:t>
            </a:r>
            <a:r>
              <a:rPr b="0" i="1" lang="es-ES" sz="1200" spc="-1" strike="noStrike">
                <a:solidFill>
                  <a:srgbClr val="000000"/>
                </a:solidFill>
                <a:latin typeface="Arial"/>
              </a:rPr>
              <a:t>Evangelismo</a:t>
            </a:r>
            <a:r>
              <a:rPr b="0" lang="es-ES" sz="1200" spc="-1" strike="noStrike">
                <a:solidFill>
                  <a:srgbClr val="000000"/>
                </a:solidFill>
                <a:latin typeface="Arial"/>
              </a:rPr>
              <a:t>, p. 346)</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535040" y="679320"/>
            <a:ext cx="3327480" cy="2495520"/>
          </a:xfrm>
          <a:prstGeom prst="rect">
            <a:avLst/>
          </a:prstGeom>
          <a:ln w="0">
            <a:noFill/>
          </a:ln>
        </p:spPr>
      </p:sp>
      <p:sp>
        <p:nvSpPr>
          <p:cNvPr id="279" name="PlaceHolder 2"/>
          <p:cNvSpPr>
            <a:spLocks noGrp="1"/>
          </p:cNvSpPr>
          <p:nvPr>
            <p:ph type="body"/>
          </p:nvPr>
        </p:nvSpPr>
        <p:spPr>
          <a:xfrm>
            <a:off x="685800" y="3238560"/>
            <a:ext cx="5486400" cy="4835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Enseñe esto, hermano mío. Hay muchos caminos que se abren delante de Ud. Hable a la congregación cuando quiera que pueda hacerlo; utilice toda la influencia que pueda ejercer en su asociación con los demás para introducir la levadura en la masa. Cada hombre y cada mujer tiene una obra que hacer para el maestro. La consagración personal y la santificación a Dios se llevará a cabo mediante los métodos más sencillos, antes que por medio de la exhibición más imponente (Review and Herald, 9 de mayo, 1899).”  (</a:t>
            </a:r>
            <a:r>
              <a:rPr b="0" i="1" lang="es-ES" sz="1200" spc="-1" strike="noStrike">
                <a:solidFill>
                  <a:srgbClr val="000000"/>
                </a:solidFill>
                <a:latin typeface="Arial"/>
              </a:rPr>
              <a:t>Evangelismo</a:t>
            </a:r>
            <a:r>
              <a:rPr b="0" lang="es-ES" sz="1200" spc="-1" strike="noStrike">
                <a:solidFill>
                  <a:srgbClr val="000000"/>
                </a:solidFill>
                <a:latin typeface="Arial"/>
              </a:rPr>
              <a:t>, p. 34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030400" y="511200"/>
            <a:ext cx="2720880" cy="2041560"/>
          </a:xfrm>
          <a:prstGeom prst="rect">
            <a:avLst/>
          </a:prstGeom>
          <a:ln w="0">
            <a:noFill/>
          </a:ln>
        </p:spPr>
      </p:sp>
      <p:sp>
        <p:nvSpPr>
          <p:cNvPr id="192" name="PlaceHolder 2"/>
          <p:cNvSpPr>
            <a:spLocks noGrp="1"/>
          </p:cNvSpPr>
          <p:nvPr>
            <p:ph type="body"/>
          </p:nvPr>
        </p:nvSpPr>
        <p:spPr>
          <a:xfrm>
            <a:off x="685800" y="2629080"/>
            <a:ext cx="5486400" cy="5365440"/>
          </a:xfrm>
          <a:prstGeom prst="rect">
            <a:avLst/>
          </a:prstGeom>
          <a:noFill/>
          <a:ln w="0">
            <a:noFill/>
          </a:ln>
        </p:spPr>
        <p:txBody>
          <a:bodyPr lIns="91080" rIns="91080" tIns="45360" bIns="45360"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desea obreros que puedan llevar la verdad a todas las clases, altas y bajas, ricas y pobres. En este trabajo, las mujeres pueden ejercer una parte importante. Quiera Dios que los que leen estas palabras dediquen sinceros esfuerzos para presentar una puerta abierta para que mujeres consagradas ingresen en el ca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MR 162.(</a:t>
            </a:r>
            <a:r>
              <a:rPr b="0" i="1" lang="es-ES" sz="1200" spc="-1" strike="noStrike">
                <a:solidFill>
                  <a:srgbClr val="000000"/>
                </a:solidFill>
                <a:latin typeface="Arial"/>
              </a:rPr>
              <a:t>Daughters of God</a:t>
            </a:r>
            <a:r>
              <a:rPr b="0" lang="es-ES" sz="1200" spc="-1" strike="noStrike">
                <a:solidFill>
                  <a:srgbClr val="000000"/>
                </a:solidFill>
                <a:latin typeface="Arial"/>
              </a:rPr>
              <a:t>, p. 1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ctualmente, la</a:t>
            </a:r>
            <a:r>
              <a:rPr b="0" lang="pt-BR" sz="1200" spc="-1" strike="noStrike">
                <a:solidFill>
                  <a:srgbClr val="000000"/>
                </a:solidFill>
                <a:latin typeface="Arial"/>
              </a:rPr>
              <a:t> </a:t>
            </a:r>
            <a:r>
              <a:rPr b="0" lang="es-ES" sz="1200" spc="-1" strike="noStrike">
                <a:solidFill>
                  <a:srgbClr val="000000"/>
                </a:solidFill>
                <a:latin typeface="Arial"/>
              </a:rPr>
              <a:t>iglesia es mucho mayor y mejor organizada para realizar esta obra, pero la misión solamente se hizo mayor ante el crecimiento de la iglesia. Los años nos trajeron más cerca todavía de la venida de Jesucristo. Las crisis en nuestro mundo representan mayor urgencia y relevancia en la proclamación del breve regreso de Jesús. La necesidad de obreros ahora no es menor para alcanzar al mundo que está pereciendo por la falta de la verdad. La tecnología y el comercio mundial se volvieron más sofisticados y de igual forma los engaños del maligno, ya que “sabe que le resta poco tiempo” (Apocalipsis 12:12. NVI). Ellen White escribió que todos los que pudieren deberían estar envueltos en alcanzar al mundo. Eso es más importante hoy que nunca! En este seminario, examinaremos la visión de Ellen White sobre el envolvimiento de las mujeres en la obra de la Iglesia. Trataremos de comprender los principios vitales endosados por ella y exploraremos cómo pueden ser aplicados a fin de hacer a las mujeres y a nuestra iglesia más eficientes h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en White creía que no muchas mujeres sentían su responsabilidad, como individuos, de trabajar para Dios. Muchas sin duda, creían que las pruebas de cuidar a la familia y de la casa exigían todo el tiempo que disponían y así se excusaban de otras obligaciones. En una carta que le escribió a Sarepta Myrenda Irish Henry, la mujer que fundó los Ministerios de la Mujer, en 1898 (llamado Ministerio de la Mujer en ese tiempo), Ellen White escribió</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727280" y="571680"/>
            <a:ext cx="3225600" cy="2419200"/>
          </a:xfrm>
          <a:prstGeom prst="rect">
            <a:avLst/>
          </a:prstGeom>
          <a:ln w="0">
            <a:noFill/>
          </a:ln>
        </p:spPr>
      </p:sp>
      <p:sp>
        <p:nvSpPr>
          <p:cNvPr id="281" name="PlaceHolder 2"/>
          <p:cNvSpPr>
            <a:spLocks noGrp="1"/>
          </p:cNvSpPr>
          <p:nvPr>
            <p:ph type="body"/>
          </p:nvPr>
        </p:nvSpPr>
        <p:spPr>
          <a:xfrm>
            <a:off x="685800" y="3009960"/>
            <a:ext cx="5486400" cy="5029200"/>
          </a:xfrm>
          <a:prstGeom prst="rect">
            <a:avLst/>
          </a:prstGeom>
          <a:noFill/>
          <a:ln w="0">
            <a:noFill/>
          </a:ln>
        </p:spPr>
        <p:txBody>
          <a:bodyPr lIns="91080" rIns="91080" tIns="45360" bIns="4536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ffff00"/>
                </a:solidFill>
                <a:latin typeface="Arial"/>
              </a:rPr>
              <a:t>Las mujeres que están dispuestas a consagrar parte de su tiempo al servicio del Señor deberían recibir la incumbencia de visitar al enfermo, cuidar de los jóvenes y ministrar las necesidades del pobre. Deberían ser separadas para este trabajo por la oración y por la imposición de manos. En algunos casos, deberán recibir el consejo de los oficiales o del ministro de la iglesia; pero, si fueren mujeres devotas, manteniendo conexión vital con Dios, serán un poder para el bien en la iglesia. Review and Herald, 9 de julio de 1895. (</a:t>
            </a:r>
            <a:r>
              <a:rPr b="0" i="1" lang="es-ES" sz="1200" spc="-1" strike="noStrike">
                <a:solidFill>
                  <a:srgbClr val="ffff00"/>
                </a:solidFill>
                <a:latin typeface="Arial"/>
              </a:rPr>
              <a:t>Daughters of God, p.</a:t>
            </a:r>
            <a:r>
              <a:rPr b="0" lang="es-ES" sz="1200" spc="-1" strike="noStrike">
                <a:solidFill>
                  <a:srgbClr val="ffff00"/>
                </a:solidFill>
                <a:latin typeface="Arial"/>
              </a:rPr>
              <a:t> 102).</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varias tareas que se mencionan o se refieren aquí. La última declaración parece estarse refiriendo al tipo de trabajo realizados por los diáconos del Nuevo Testamento (y presumiblemente, diaconisas). La primera de la predicación y de la segunda a la última, seguramente, del evangelismo público. Las demás, hablando de presentar la verdad a los otros, puede estar refiriéndose al testimonio persona a persona, como por ejemplo: dar estudios bíblico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discusión:</a:t>
            </a:r>
            <a:r>
              <a:rPr b="0" lang="es-ES" sz="1200" spc="-1" strike="noStrike">
                <a:solidFill>
                  <a:srgbClr val="000000"/>
                </a:solidFill>
                <a:latin typeface="Arial"/>
              </a:rPr>
              <a:t> Lleve a las participantes del grupo a considerar las preguntas para discusión nº 5 en sus hojas. Pídale a una persona de uno o más grupos (de acuerdo con el tiempo) que presente un informe breve para el grupo en genera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eguntas para consideración nº 5</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1.</a:t>
            </a:r>
            <a:r>
              <a:rPr b="0" lang="es-ES" sz="1200" spc="-1" strike="noStrike">
                <a:solidFill>
                  <a:srgbClr val="000000"/>
                </a:solidFill>
                <a:latin typeface="Arial"/>
              </a:rPr>
              <a:t>	</a:t>
            </a:r>
            <a:r>
              <a:rPr b="0" lang="es-ES" sz="1200" spc="-1" strike="noStrike">
                <a:solidFill>
                  <a:srgbClr val="000000"/>
                </a:solidFill>
                <a:latin typeface="Arial"/>
              </a:rPr>
              <a:t>¿Por qué Ellen White dice que Dios quiere combinar los talentos de hombres y mujeres cuando hay una obra importante a realizars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a:t>
            </a:r>
            <a:r>
              <a:rPr b="0" lang="es-ES" sz="1200" spc="-1" strike="noStrike">
                <a:solidFill>
                  <a:srgbClr val="000000"/>
                </a:solidFill>
                <a:latin typeface="Arial"/>
              </a:rPr>
              <a:t>	</a:t>
            </a:r>
            <a:r>
              <a:rPr b="0" lang="es-ES" sz="1200" spc="-1" strike="noStrike">
                <a:solidFill>
                  <a:srgbClr val="000000"/>
                </a:solidFill>
                <a:latin typeface="Arial"/>
              </a:rPr>
              <a:t>¿Cómo puede la iglesia maximizar las ventajas del envolvimiento tanto de hombres como de muje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3.</a:t>
            </a:r>
            <a:r>
              <a:rPr b="0" lang="es-ES" sz="1200" spc="-1" strike="noStrike">
                <a:solidFill>
                  <a:srgbClr val="000000"/>
                </a:solidFill>
                <a:latin typeface="Arial"/>
              </a:rPr>
              <a:t>	</a:t>
            </a:r>
            <a:r>
              <a:rPr b="0" lang="es-ES" sz="1200" spc="-1" strike="noStrike">
                <a:solidFill>
                  <a:srgbClr val="000000"/>
                </a:solidFill>
                <a:latin typeface="Arial"/>
              </a:rPr>
              <a:t>¿Qué tipo de acción misionera hacían las mujeres en los días de Ellen White? ¿Qué oportunidades de ministerio están disponibles para las mujeres ho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4.</a:t>
            </a:r>
            <a:r>
              <a:rPr b="0" lang="es-ES" sz="1200" spc="-1" strike="noStrike">
                <a:solidFill>
                  <a:srgbClr val="000000"/>
                </a:solidFill>
                <a:latin typeface="Arial"/>
              </a:rPr>
              <a:t>	</a:t>
            </a:r>
            <a:r>
              <a:rPr b="0" lang="es-ES" sz="1200" spc="-1" strike="noStrike">
                <a:solidFill>
                  <a:srgbClr val="000000"/>
                </a:solidFill>
                <a:latin typeface="Arial"/>
              </a:rPr>
              <a:t>¿Qué oportunidades están disponibles al testimonio persona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5.</a:t>
            </a:r>
            <a:r>
              <a:rPr b="0" lang="es-ES" sz="1200" spc="-1" strike="noStrike">
                <a:solidFill>
                  <a:srgbClr val="000000"/>
                </a:solidFill>
                <a:latin typeface="Arial"/>
              </a:rPr>
              <a:t>	</a:t>
            </a:r>
            <a:r>
              <a:rPr b="0" lang="es-ES" sz="1200" spc="-1" strike="noStrike">
                <a:solidFill>
                  <a:srgbClr val="000000"/>
                </a:solidFill>
                <a:latin typeface="Arial"/>
              </a:rPr>
              <a:t>¿Cómo pueden apoyarse y ayudarse las mujeres cristianas unas a otras en su testimonio hoy?</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533520" y="777960"/>
            <a:ext cx="5790960" cy="64231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EJEMPLO PERSONAL DE ELLEN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modeló Ellen White esos principios en su vida personal? ¿Cómo era ella como persona? Por todos los relatos que tenemos, ella era esposa, madre y abuela devota. Cuando fue llamada para alejarse de los hijos para cumplir su ministerio público, mantenía el contacto enviándoles cartas. Éstas revelan su amor por cada uno de sus hijos, y también les contaba las cosas interesantes que observaba en sus viajes y de su deseo de que desarrollasen un carácter semejante al de Jesús. Cuando estaba en casa, Ellen White organizaba reuniones de costura y tejido para ayudar a los menos afortunados. Cultivaba vegetales y flores y les mostraba a los pobres cómo cultivar el suelo. Compartía su jardín y huerta con los otros. Muchas veces viajaba largas distancias con su caballo y carreta para entregar un pan hecho en casa o algunos vegetales a sus vecinos. Ella practicaba una cuidadosa economía para que aún cuando sus recursos eran parcos, pudiese compartirlos con los necesit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ra hospitalaria e invitaba a muchas personas a comer en su casa a punto de que algunas veces, su familia decía que la casa era un hotel. Junto con su marido Jaime, cuidaban de huérfanos y de alumnos necesitados en su hogar por semanas, meses y algunas veces, por años. Ella trabajaba con la comunidad en proyectos para beneficiar al pobre y era miembro activa de la Unión de las Mujeres Cristianas por la Temperancia. Ellen White, muchas veces, fue invitada a hablar para más de 20.000 personas, ¡sin micrófo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levar hombres y mujeres, niños y niñas a Jesús es siempre el tema central de los escritos de Ellen White y de su larga vida de servicio a los otros. Ella es un excelente ejemplo para las mujeres cristia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CLU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vía estamos en medio de una guerra – una guerra que Ellen White llamó “El Gran Conflicto”. Hombres y mujeres reciben de Dios la ofrenda de la vida eterna, ante un enemigo que no quiere que la comprendan o acepten. Tú y yo vivimos en las etapas finales de esa guerra. Y cuando vemos nuestra vida en ese contexto, es más fácil comprender la urgencia por detrás de las declaraciones que acabamos de leer – queda claro por qué Ellen White estaba más preocupada con la gran necesidad de obreros que con enfatizar y justificar el papel de las mujeres. Como mujeres, podemos ver que la necesidad es mayor ahora que nunca antes. Hoy, el llamado a consagrar nuestras energías a Dios es mayor que en cualquier otro período de la historia de la tierra. Gracias a Dios, en buena parte del mundo no se enfrenta más las tendencias culturales contra las mujeres que existía en los días de Ellen White. Siendo así, no tenemos excusas.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994040" y="723960"/>
            <a:ext cx="2946240" cy="2209680"/>
          </a:xfrm>
          <a:prstGeom prst="rect">
            <a:avLst/>
          </a:prstGeom>
          <a:ln w="0">
            <a:noFill/>
          </a:ln>
        </p:spPr>
      </p:sp>
      <p:sp>
        <p:nvSpPr>
          <p:cNvPr id="284" name="PlaceHolder 2"/>
          <p:cNvSpPr>
            <a:spLocks noGrp="1"/>
          </p:cNvSpPr>
          <p:nvPr>
            <p:ph type="body"/>
          </p:nvPr>
        </p:nvSpPr>
        <p:spPr>
          <a:xfrm>
            <a:off x="685800" y="300960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nos lleva al verdadero propósito de nuestro seminario hoy: ¿Cómo responderemos a ese llamado al ministerio? ¿Qué oportunidades tenemos personalmente de alcanzar personas para Dios? ¿Qué puedes hacer para comenzar o para mejorar y compartir tu 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últimas preguntas de la presentación de hoy se destina a que cada una responda individualmente la hoja, en la página ______. Estas son preguntas importantes para ser consideradas y exigen consideración en oración. Daré a cada una ahora algunos minutos para pensar – tal vez sería bueno primero orar y después responder a esas preguntas en el papel. Sus respuestas son el verdadero propósito de este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ea las preguntas para respuesta personal, y medite por algún tiempo antes de responder:</a:t>
            </a:r>
            <a:r>
              <a:rPr b="0" lang="es-ES" sz="1200" spc="-1" strike="noStrike">
                <a:solidFill>
                  <a:srgbClr val="000000"/>
                </a:solidFill>
                <a:latin typeface="Arial"/>
              </a:rPr>
              <a:t> Esta es una buena oportunidad para que la presentadora dedique tiempo orando por las particip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odas tuvieron la oportunidad de meditar y de escribir algo al respecto? Si crees que las respuestas no fueron totalmente respondidas, no te preocupes – simplemente continua orando sobre eso después de salir de este lugar. Pero ahora, lo que me gustaría que hagan es formar parejas y decirse una a la otra lo que escribieron. De forma particular, di lo que puedes hacer específicamente para testimoniar a otros. En seguida, ore una por la otra, para que se mencione el nombre de cada en las oraciones. Dediquen cinco minutos para esta pa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sados los cinco minutos, o cuando la mayoría del grupo haya terminado, atraiga la atención d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abe a Dios por habernos dado el maravilloso evangelio para ser compartido. Alabe a Dios por querer que las mujeres – ustedes y yo – trabajemos a su lado para salvar hombres y mujeres, niños y niñas. ¿No es maravilloso? Oremo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68480" y="590400"/>
            <a:ext cx="2921040" cy="2190960"/>
          </a:xfrm>
          <a:prstGeom prst="rect">
            <a:avLst/>
          </a:prstGeom>
          <a:ln w="0">
            <a:noFill/>
          </a:ln>
        </p:spPr>
      </p:sp>
      <p:sp>
        <p:nvSpPr>
          <p:cNvPr id="194" name="PlaceHolder 2"/>
          <p:cNvSpPr>
            <a:spLocks noGrp="1"/>
          </p:cNvSpPr>
          <p:nvPr>
            <p:ph type="body"/>
          </p:nvPr>
        </p:nvSpPr>
        <p:spPr>
          <a:xfrm>
            <a:off x="685800" y="2898360"/>
            <a:ext cx="5486400" cy="51404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a:t>
            </a:r>
            <a:r>
              <a:rPr b="0" lang="es-ES" sz="1200" spc="-1" strike="noStrike">
                <a:solidFill>
                  <a:srgbClr val="000000"/>
                </a:solidFill>
                <a:latin typeface="Arial"/>
              </a:rPr>
              <a:t>La obra que Ud.* está haciendo para ayudar a nuestras hermanas, a fin de que sientan su responsabilidad individual ante Dios, es una obra buena y necesaria. Ha sido descuidada durante mucho tiempo. Pero cuando esta obra se traza con líneas claras, sencillas y definidas, podemos esperar que los deberes hogareños, en vez de ser descuidados, serán hechos mucho más inteligentemente. El Señor quiere que nosotros siempre hagamos resaltar el valor del alma humana ante aquellos que no comprenden su valor”</a:t>
            </a:r>
            <a:r>
              <a:rPr b="0" lang="es-E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057400" y="514440"/>
            <a:ext cx="3022560" cy="2266920"/>
          </a:xfrm>
          <a:prstGeom prst="rect">
            <a:avLst/>
          </a:prstGeom>
          <a:ln w="0">
            <a:noFill/>
          </a:ln>
        </p:spPr>
      </p:sp>
      <p:sp>
        <p:nvSpPr>
          <p:cNvPr id="196" name="PlaceHolder 2"/>
          <p:cNvSpPr>
            <a:spLocks noGrp="1"/>
          </p:cNvSpPr>
          <p:nvPr>
            <p:ph type="body"/>
          </p:nvPr>
        </p:nvSpPr>
        <p:spPr>
          <a:xfrm>
            <a:off x="685800" y="2822400"/>
            <a:ext cx="5486400" cy="5064480"/>
          </a:xfrm>
          <a:prstGeom prst="rect">
            <a:avLst/>
          </a:prstGeom>
          <a:noFill/>
          <a:ln w="0">
            <a:noFill/>
          </a:ln>
        </p:spPr>
        <p:txBody>
          <a:bodyPr lIns="91080" rIns="91080" tIns="45360" bIns="4536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Si podemos hacer arreglos para que haya grupos organizados, regulares, inteligentemente instruidos en lo que atañe a la parte que deben realizar como siervos del Maestro, nuestras iglesias tendrán una vida y vitalidad que hace mucho que necesitaban. Se apreciará la excelencia del alma que Cristo ha salvado. Nuestras hermanas generalmente sufren debido a que sus familias aumentan y no se aprecian sus prueba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81080" y="895320"/>
            <a:ext cx="3124440" cy="2343240"/>
          </a:xfrm>
          <a:prstGeom prst="rect">
            <a:avLst/>
          </a:prstGeom>
          <a:ln w="0">
            <a:noFill/>
          </a:ln>
        </p:spPr>
      </p:sp>
      <p:sp>
        <p:nvSpPr>
          <p:cNvPr id="198" name="PlaceHolder 2"/>
          <p:cNvSpPr>
            <a:spLocks noGrp="1"/>
          </p:cNvSpPr>
          <p:nvPr>
            <p:ph type="body"/>
          </p:nvPr>
        </p:nvSpPr>
        <p:spPr>
          <a:xfrm>
            <a:off x="685800" y="3323880"/>
            <a:ext cx="5486400" cy="506412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mucho tiempo he anhelado que hubiera mujeres que pudieran ser educadas para ayudar a nuestras hermanas a levantarse de su desánimo y sentir que podrían hacer una obra para el Señor. Esto es hacer brillar rayos de sol en sus propias vidas, que se reflejan en los corazones de otros. Dios la bendecirá y a todas las que se unan con Ud. en esta gran obra (Carta 54, 1899). </a:t>
            </a:r>
            <a:r>
              <a:rPr b="1" lang="es-ES" sz="1200" spc="-1" strike="noStrike">
                <a:solidFill>
                  <a:srgbClr val="000000"/>
                </a:solidFill>
                <a:latin typeface="Arial"/>
              </a:rPr>
              <a:t> </a:t>
            </a:r>
            <a:r>
              <a:rPr b="0" lang="es-ES" sz="1200" spc="-1" strike="noStrike">
                <a:solidFill>
                  <a:srgbClr val="000000"/>
                </a:solidFill>
                <a:latin typeface="Arial"/>
              </a:rPr>
              <a:t>(</a:t>
            </a:r>
            <a:r>
              <a:rPr b="0" i="1" lang="es-ES" sz="1200" spc="-1" strike="noStrike">
                <a:solidFill>
                  <a:srgbClr val="000000"/>
                </a:solidFill>
                <a:latin typeface="Arial"/>
              </a:rPr>
              <a:t>Ministerio de Curación</a:t>
            </a:r>
            <a:r>
              <a:rPr b="0" lang="es-ES" sz="1200" spc="-1" strike="noStrike">
                <a:solidFill>
                  <a:srgbClr val="000000"/>
                </a:solidFill>
                <a:latin typeface="Arial"/>
              </a:rPr>
              <a:t>, p. 149-151)</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057400" y="495360"/>
            <a:ext cx="3022560" cy="2266920"/>
          </a:xfrm>
          <a:prstGeom prst="rect">
            <a:avLst/>
          </a:prstGeom>
          <a:ln w="0">
            <a:noFill/>
          </a:ln>
        </p:spPr>
      </p:sp>
      <p:sp>
        <p:nvSpPr>
          <p:cNvPr id="200" name="PlaceHolder 2"/>
          <p:cNvSpPr>
            <a:spLocks noGrp="1"/>
          </p:cNvSpPr>
          <p:nvPr>
            <p:ph type="body"/>
          </p:nvPr>
        </p:nvSpPr>
        <p:spPr>
          <a:xfrm>
            <a:off x="685800" y="2857320"/>
            <a:ext cx="5486400" cy="528948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lang="es-ES" sz="1200" spc="-1" strike="noStrike">
                <a:solidFill>
                  <a:srgbClr val="000000"/>
                </a:solidFill>
                <a:latin typeface="Trebuchet MS"/>
              </a:rPr>
              <a:t>Las mujeres que tienen la causa de Dios en el corazón pueden realizar una buena obra en los distritos en los cuales residen. Cristo habla de mujeres que lo ayudaron a presentar la verdad ante los otros, y Pablo también habla de las mujeres que trabajaron con él en el evangelio. Pero cuán limitada es la obra realizada por aquellas que podrían hacer un gran trabajo si se disponen a eso. Carta 31, 1894.”</a:t>
            </a:r>
            <a:endParaRPr b="0" lang="en-US" sz="12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rebuchet MS"/>
              </a:rPr>
              <a:t>(</a:t>
            </a:r>
            <a:r>
              <a:rPr b="0" i="1" lang="es-ES" sz="1200" spc="-1" strike="noStrike">
                <a:solidFill>
                  <a:srgbClr val="000000"/>
                </a:solidFill>
                <a:latin typeface="Trebuchet MS"/>
              </a:rPr>
              <a:t>Daughters of God</a:t>
            </a:r>
            <a:r>
              <a:rPr b="0" lang="es-ES" sz="1200" spc="-1" strike="noStrike">
                <a:solidFill>
                  <a:srgbClr val="000000"/>
                </a:solidFill>
                <a:latin typeface="Trebuchet MS"/>
              </a:rPr>
              <a:t>, p. 21)</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12C2C-C0C6-46B3-A4E3-4BA2C562B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DAA66-8409-48B8-89D2-DDB9FDFF6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06C11-2DD2-4CF6-AEB9-9E12A8FFD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D7756-D158-4813-A22D-C6E72CA7E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54C9A-1B95-46D6-AD23-0F3700B4D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43AE8-BD19-434E-8DF2-7005005D8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EAB59-495B-45C2-A27D-E35400798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10090-5239-43CF-BEEB-43CAB806F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B9D4F-3B3B-4CA9-9C7F-A4FDC0EBE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4B19A-E0DE-4F24-AAEB-CAFBD9A38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09EE2-D570-4C90-BB0D-33C177D56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7492A-E252-4B6D-A35A-E285AEC12A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9B577-BB7C-4E8E-A2B0-CE16B1F9C6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380880" y="1143000"/>
            <a:ext cx="6019920" cy="92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rPr>
              <a:t>El papel de las mujeres </a:t>
            </a:r>
            <a:endPar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ea typeface="Calligraph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rPr>
              <a:t>en Ellen White</a:t>
            </a:r>
            <a:endParaRPr b="0" i="1" lang="en-US" sz="3200" spc="1" strike="noStrike">
              <a:ln w="9360">
                <a:solidFill>
                  <a:srgbClr val="800000"/>
                </a:solidFill>
                <a:miter/>
              </a:ln>
              <a:solidFill>
                <a:srgbClr val="800000"/>
              </a:solidFill>
              <a:effectLst>
                <a:outerShdw dist="17819" dir="2700000" blurRad="0" rotWithShape="0">
                  <a:srgbClr val="000000">
                    <a:alpha val="80000"/>
                  </a:srgbClr>
                </a:outerShdw>
              </a:effectLst>
              <a:latin typeface="Calligrapher"/>
              <a:ea typeface="Calligrapher"/>
            </a:endParaRPr>
          </a:p>
        </p:txBody>
      </p:sp>
      <p:sp>
        <p:nvSpPr>
          <p:cNvPr id="52" name=""/>
          <p:cNvSpPr txBox="1"/>
          <p:nvPr/>
        </p:nvSpPr>
        <p:spPr>
          <a:xfrm>
            <a:off x="380880" y="495288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3300"/>
                  </a:solidFill>
                  <a:miter/>
                </a:ln>
                <a:solidFill>
                  <a:srgbClr val="993300"/>
                </a:solidFill>
                <a:effectLst>
                  <a:outerShdw dist="40186" dir="1096358" blurRad="0" rotWithShape="0">
                    <a:srgbClr val="ffffff">
                      <a:alpha val="50000"/>
                    </a:srgbClr>
                  </a:outerShdw>
                </a:effectLst>
                <a:latin typeface="Times New Roman"/>
              </a:rPr>
              <a:t>MINISTERIOS DE LA MUJER</a:t>
            </a:r>
            <a:endParaRPr b="0" lang="en-US" sz="1800" spc="1" strike="noStrike">
              <a:ln w="9360">
                <a:solidFill>
                  <a:srgbClr val="993300"/>
                </a:solidFill>
                <a:miter/>
              </a:ln>
              <a:solidFill>
                <a:srgbClr val="993300"/>
              </a:solidFill>
              <a:effectLst>
                <a:outerShdw dist="40186" dir="1096358" blurRad="0" rotWithShape="0">
                  <a:srgbClr val="ffffff">
                    <a:alpha val="50000"/>
                  </a:srgbClr>
                </a:outerShdw>
              </a:effectLst>
              <a:latin typeface="Times New Roman"/>
              <a:ea typeface="Times New Roman"/>
            </a:endParaRPr>
          </a:p>
        </p:txBody>
      </p:sp>
      <p:sp>
        <p:nvSpPr>
          <p:cNvPr id="53" name=""/>
          <p:cNvSpPr/>
          <p:nvPr/>
        </p:nvSpPr>
        <p:spPr>
          <a:xfrm>
            <a:off x="491040" y="5484960"/>
            <a:ext cx="167436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BernhardMod BT"/>
              </a:rPr>
              <a:t>Curso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800000"/>
                </a:solidFill>
                <a:latin typeface="BernhardMod BT"/>
              </a:rPr>
              <a:t>Liderazgo</a:t>
            </a:r>
            <a:endParaRPr b="0" lang="en-US" sz="2400" spc="-1" strike="noStrike">
              <a:solidFill>
                <a:srgbClr val="000000"/>
              </a:solidFill>
              <a:latin typeface="Arial"/>
            </a:endParaRPr>
          </a:p>
        </p:txBody>
      </p:sp>
      <p:sp>
        <p:nvSpPr>
          <p:cNvPr id="54" name=""/>
          <p:cNvSpPr/>
          <p:nvPr/>
        </p:nvSpPr>
        <p:spPr>
          <a:xfrm>
            <a:off x="2743200" y="5546880"/>
            <a:ext cx="121932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800000"/>
                </a:solidFill>
                <a:latin typeface="BernhardMod BT"/>
              </a:rPr>
              <a:t>3</a:t>
            </a:r>
            <a:endParaRPr b="0" lang="en-US" sz="6000" spc="-1" strike="noStrike">
              <a:solidFill>
                <a:srgbClr val="000000"/>
              </a:solidFill>
              <a:latin typeface="Arial"/>
            </a:endParaRPr>
          </a:p>
        </p:txBody>
      </p:sp>
      <p:sp>
        <p:nvSpPr>
          <p:cNvPr id="55" name=""/>
          <p:cNvSpPr/>
          <p:nvPr/>
        </p:nvSpPr>
        <p:spPr>
          <a:xfrm>
            <a:off x="2133720" y="5562720"/>
            <a:ext cx="1714320" cy="457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BernhardMod BT"/>
                <a:ea typeface="Times New Roman"/>
              </a:rPr>
              <a:t>NÍI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
          <p:cNvSpPr/>
          <p:nvPr/>
        </p:nvSpPr>
        <p:spPr>
          <a:xfrm>
            <a:off x="2119320" y="3673440"/>
            <a:ext cx="170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ligrapher"/>
              </a:rPr>
              <a:t>Cindy Tuts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1066320" y="304560"/>
            <a:ext cx="8077320" cy="6476760"/>
          </a:xfrm>
          <a:prstGeom prst="rect">
            <a:avLst/>
          </a:prstGeom>
          <a:noFill/>
          <a:ln w="0">
            <a:noFill/>
          </a:ln>
        </p:spPr>
        <p:txBody>
          <a:bodyPr lIns="90000" rIns="90000" tIns="46800" bIns="46800" anchor="t">
            <a:normAutofit fontScale="96000"/>
          </a:bodyPr>
          <a:p>
            <a:pPr marL="32904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He pensado que con su experiencia, bajo la supervisión de Dios, Ud. Podría ejercer su influencia para poner en acción formas de trabajo donde las mujeres puedan unirse juntamente para laborar con el Señor. Ciertamente debería haber un gran número de mujeres dedicadas a ministrar a la humanidad doliente, a elevarla y educarla para que crean –nada más que para que crean- en Jesucristo nuestro Salvador. Y a medida que las almas se den al Señor Jesús, y se entreguen completamente, comprenderán la doctrina. .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1371240" y="151920"/>
            <a:ext cx="7620120" cy="5791320"/>
          </a:xfrm>
          <a:prstGeom prst="rect">
            <a:avLst/>
          </a:prstGeom>
          <a:noFill/>
          <a:ln w="0">
            <a:noFill/>
          </a:ln>
        </p:spPr>
        <p:txBody>
          <a:bodyPr lIns="90000" rIns="90000" tIns="46800" bIns="46800"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Me siento apenada porque nuestras hermanas de los Estados Unidos no están haciendo más de lo que podrían hacer por el Señor Jesús. Si esperan en Cristo, recibirán valor, fuerza y fe para realizar la obra. A muchas mujeres les gusta hablar. </a:t>
            </a:r>
            <a:r>
              <a:rPr b="0" lang="es-ES" sz="2800" spc="-1" strike="noStrike">
                <a:solidFill>
                  <a:srgbClr val="000000"/>
                </a:solidFill>
                <a:latin typeface="Arial"/>
              </a:rPr>
              <a:t>¿Por qué no podrían hablar las palabras de Cristo a las almas que perecen? Cuanto más estrechamente nos relacionamos con Cristo, tanto más aprende el corazón la condición desesperada de las almas que no conocen a Dios, y que no sienten la deshonra que están infligiendo a Cristo quien las ha comprado por precio</a:t>
            </a:r>
            <a:r>
              <a:rPr b="0" lang="es-ES" sz="2800" spc="-1" strike="noStrike">
                <a:solidFill>
                  <a:srgbClr val="000000"/>
                </a:solidFill>
                <a:latin typeface="Trebuchet MS"/>
              </a:rPr>
              <a:t>.</a:t>
            </a: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Carta 133, 1898.” (</a:t>
            </a:r>
            <a:r>
              <a:rPr b="0" i="1" lang="es-ES" sz="2800" spc="-1" strike="noStrike">
                <a:solidFill>
                  <a:srgbClr val="000000"/>
                </a:solidFill>
                <a:latin typeface="Trebuchet MS"/>
              </a:rPr>
              <a:t>Evangelismo</a:t>
            </a:r>
            <a:r>
              <a:rPr b="0" lang="es-ES" sz="2800" spc="-1" strike="noStrike">
                <a:solidFill>
                  <a:srgbClr val="000000"/>
                </a:solidFill>
                <a:latin typeface="Trebuchet MS"/>
              </a:rPr>
              <a:t>, 34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9144000" cy="6858000"/>
          </a:xfrm>
          <a:prstGeom prst="rect">
            <a:avLst/>
          </a:prstGeom>
          <a:ln w="0">
            <a:noFill/>
          </a:ln>
        </p:spPr>
      </p:pic>
      <p:sp>
        <p:nvSpPr>
          <p:cNvPr id="84" name=""/>
          <p:cNvSpPr txBox="1"/>
          <p:nvPr/>
        </p:nvSpPr>
        <p:spPr>
          <a:xfrm>
            <a:off x="533520" y="2438280"/>
            <a:ext cx="5410080" cy="79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993300"/>
                </a:solidFill>
                <a:effectLst>
                  <a:outerShdw dist="17819" dir="2700000" blurRad="0" rotWithShape="0">
                    <a:srgbClr val="000000">
                      <a:alpha val="80000"/>
                    </a:srgbClr>
                  </a:outerShdw>
                </a:effectLst>
                <a:latin typeface="Calligrapher"/>
              </a:rPr>
              <a:t>La Mujer Cristiana</a:t>
            </a:r>
            <a:endParaRPr b="1" i="1" lang="en-US" sz="1800" spc="1" strike="noStrike">
              <a:ln w="9360">
                <a:solidFill>
                  <a:srgbClr val="8000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85" name=""/>
          <p:cNvSpPr/>
          <p:nvPr/>
        </p:nvSpPr>
        <p:spPr>
          <a:xfrm>
            <a:off x="1143000" y="342900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6" name=""/>
          <p:cNvSpPr/>
          <p:nvPr/>
        </p:nvSpPr>
        <p:spPr>
          <a:xfrm>
            <a:off x="0" y="35812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p:nvPr>
        </p:nvSpPr>
        <p:spPr>
          <a:xfrm>
            <a:off x="-360" y="1371600"/>
            <a:ext cx="8915400" cy="452592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mujeres pueden ejercer influencia transformadora si tan solo consintieran en entregar su camino y su voluntad a Dios y permitirle controlar su mente, afectos y ser. Ellas pueden ejercer influencia que tienda a refinar y elevar a aquellos con quienes se asocian. Sin embargo, esa clase generalmente, es inconsciente del poder que tie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76320" y="1676520"/>
            <a:ext cx="8991360" cy="541008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Ellas ejercen influencia inconsciente la cual parece fluir naturalmente de una vida santificada, de un corazón renovado. Es el fruto que crece naturalmente del buen árbol de la plantación divina. El yo es olvidado, mezclado en la vida de Cristo. Ser rico en buenas obras es tan natural cuanto la respiración. Viven para hacer a los otros el bien y, no obstante, están listas para decir: Somos siervas inútiles.</a:t>
            </a:r>
            <a:r>
              <a:rPr b="0" lang="es-ES" sz="3200" spc="-1" strike="noStrike">
                <a:solidFill>
                  <a:srgbClr val="000000"/>
                </a:solidFill>
                <a:latin typeface="Trebuchet MS"/>
              </a:rPr>
              <a:t>	</a:t>
            </a:r>
            <a:r>
              <a:rPr b="0" lang="es-ES" sz="3200" spc="-1" strike="noStrike">
                <a:solidFill>
                  <a:srgbClr val="000000"/>
                </a:solidFill>
                <a:latin typeface="Trebuchet MS"/>
              </a:rPr>
              <a:t>2T 465 (1870)</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Daughters of God</a:t>
            </a:r>
            <a:r>
              <a:rPr b="0" lang="es-ES" sz="3200" spc="-1" strike="noStrike">
                <a:solidFill>
                  <a:srgbClr val="000000"/>
                </a:solidFill>
                <a:latin typeface="Trebuchet MS"/>
              </a:rPr>
              <a:t>, p. 154).  </a:t>
            </a:r>
            <a:endParaRPr b="0"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1447920" y="579600"/>
            <a:ext cx="7772400" cy="4525920"/>
          </a:xfrm>
          <a:prstGeom prst="rect">
            <a:avLst/>
          </a:prstGeom>
          <a:noFill/>
          <a:ln w="0">
            <a:noFill/>
          </a:ln>
        </p:spPr>
        <p:txBody>
          <a:bodyPr lIns="90000" rIns="90000" tIns="46800" bIns="46800" anchor="t">
            <a:normAutofit fontScale="85000"/>
          </a:bodyPr>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esposas, las madres y las obreras jóvenes tienen una misión admirable. Si así lo desean, pueden ejercer a su alrededor una influencia para el bien. Pueden dar testimonio en favor de la sencillez de la verdad siendo modestas en el vestir y comportándose discretamente. Así pueden hacer brillar su luz delante de todos para que otros puedan ver sus buenas obras y glorificar a su Padre que está en los cielos. Una mujer verdaderamente convertida ejercerá una poderosa influencia transformadora en favor del bien. </a:t>
            </a:r>
            <a:endParaRPr b="0" lang="en-US" sz="2800" spc="-1" strike="noStrike">
              <a:solidFill>
                <a:srgbClr val="000000"/>
              </a:solidFill>
              <a:latin typeface="Arial"/>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Manuscrito 9, 1908. (</a:t>
            </a:r>
            <a:r>
              <a:rPr b="0" i="1" lang="es-ES" sz="2800" spc="-1" strike="noStrike">
                <a:solidFill>
                  <a:srgbClr val="000000"/>
                </a:solidFill>
                <a:latin typeface="Trebuchet MS"/>
              </a:rPr>
              <a:t>Evangelismo</a:t>
            </a:r>
            <a:r>
              <a:rPr b="0" lang="es-ES" sz="2800" spc="-1" strike="noStrike">
                <a:solidFill>
                  <a:srgbClr val="000000"/>
                </a:solidFill>
                <a:latin typeface="Trebuchet MS"/>
              </a:rPr>
              <a:t>, 342)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p:nvPr>
        </p:nvSpPr>
        <p:spPr>
          <a:xfrm>
            <a:off x="1371240" y="380880"/>
            <a:ext cx="7620120" cy="4525920"/>
          </a:xfrm>
          <a:prstGeom prst="rect">
            <a:avLst/>
          </a:prstGeom>
          <a:noFill/>
          <a:ln w="0">
            <a:noFill/>
          </a:ln>
        </p:spPr>
        <p:txBody>
          <a:bodyPr lIns="90000" rIns="90000" tIns="46800" bIns="46800" anchor="t">
            <a:normAutofit fontScale="86000"/>
          </a:bodyPr>
          <a:p>
            <a:pPr marL="2948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La mujer, si aprovecha sabiamente su tiempo y sus facultades, confiando en Dios para obtener sabiduría y fuerza, puede estar en un pie de igualdad con su esposo como consejera, compañera y colaboradora, y sin embargo, no perder su gracia o modestia femenina. Puede elevar su propio carácter, y a medida que lo hace, va elevando y ennobleciendo el carácter de su familia, y ejerciendo una poderosa aunque inconsciente influencia sobre los que la rodean. G</a:t>
            </a:r>
            <a:r>
              <a:rPr b="0" i="1" lang="es-ES" sz="3200" spc="-1" strike="noStrike">
                <a:solidFill>
                  <a:srgbClr val="000000"/>
                </a:solidFill>
                <a:latin typeface="Trebuchet MS"/>
              </a:rPr>
              <a:t>ood Health</a:t>
            </a:r>
            <a:r>
              <a:rPr b="0" lang="es-ES" sz="3200" spc="-1" strike="noStrike">
                <a:solidFill>
                  <a:srgbClr val="000000"/>
                </a:solidFill>
                <a:latin typeface="Trebuchet MS"/>
              </a:rPr>
              <a:t>, junio, 1880. (</a:t>
            </a:r>
            <a:r>
              <a:rPr b="0" i="1" lang="es-ES" sz="3200" spc="-1" strike="noStrike">
                <a:solidFill>
                  <a:srgbClr val="000000"/>
                </a:solidFill>
                <a:latin typeface="Trebuchet MS"/>
              </a:rPr>
              <a:t>Evangelismo</a:t>
            </a:r>
            <a:r>
              <a:rPr b="0" lang="es-ES" sz="3200" spc="-1" strike="noStrike">
                <a:solidFill>
                  <a:srgbClr val="000000"/>
                </a:solidFill>
                <a:latin typeface="Trebuchet MS"/>
              </a:rPr>
              <a:t>, 341-34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p:nvPr>
        </p:nvSpPr>
        <p:spPr>
          <a:xfrm>
            <a:off x="-360" y="1219320"/>
            <a:ext cx="8915400" cy="4876560"/>
          </a:xfrm>
          <a:prstGeom prst="rect">
            <a:avLst/>
          </a:prstGeom>
          <a:noFill/>
          <a:ln w="0">
            <a:noFill/>
          </a:ln>
        </p:spPr>
        <p:txBody>
          <a:bodyPr lIns="90000" rIns="90000" tIns="46800" bIns="46800" anchor="t">
            <a:normAutofit fontScale="91000"/>
          </a:bodyPr>
          <a:p>
            <a:pPr marL="3121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Se necesitan mujeres de principios firmes y carácter decidido, mujeres que crean que realmente estamos viviendo en los últimos días y que tenemos el postrer solemne mensaje de amonestación para ser dado al mundo. Ellas debieran sentir que están ocupadas en una obra importante de difundir los rayos de luz que el cielo ha vertido sobre ellas. Cuando el amor de Dios y de su verdad es un principio permanente, no permitirán que nada las aparte de su deber ni las desanime en su obr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PlaceHolder 1"/>
          <p:cNvSpPr>
            <a:spLocks noGrp="1"/>
          </p:cNvSpPr>
          <p:nvPr>
            <p:ph/>
          </p:nvPr>
        </p:nvSpPr>
        <p:spPr>
          <a:xfrm>
            <a:off x="1676520" y="761760"/>
            <a:ext cx="7238880" cy="5715000"/>
          </a:xfrm>
          <a:prstGeom prst="rect">
            <a:avLst/>
          </a:prstGeom>
          <a:noFill/>
          <a:ln w="0">
            <a:noFill/>
          </a:ln>
        </p:spPr>
        <p:txBody>
          <a:bodyPr lIns="90000" rIns="90000" tIns="46800" bIns="46800"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rebuchet MS"/>
              </a:rPr>
              <a:t>Temerán a Dios y no serán distraídas de sus labores en su causa por la tentación de puestos lucrativos y perspectivas atrayentes, A toda costa, preservarán su integridad para sí mismas. Estas son las que representarán correctamente la religión de Cristo, cuyas palabras serán pronunciadas adecuadamente, como manzanas de oro con figuras de plata. Tales personas, en muchas maneras, pueden hacer una obra preciosa para Dios. El las llama para que vayan al campo de la cosecha y ayuden a reunir las gavillas (Signs of the Times, 16-9-1886). </a:t>
            </a: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rebuchet MS"/>
              </a:rPr>
              <a:t>Ministerio de Curación, págs. 156-157)</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76320" y="1905120"/>
            <a:ext cx="9144000" cy="4525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Todas las que trabajan para Dios deben reunir los atributos de Marta y los de María: una disposición a servir y un sincero amor a la verdad. El yo y el egoísmo deben ser eliminados de la vida. Dios pide obreras  fervientes, que sean prudentes, cordiales, tiernas y fieles a los buenos principi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
          <p:cNvSpPr txBox="1"/>
          <p:nvPr/>
        </p:nvSpPr>
        <p:spPr>
          <a:xfrm>
            <a:off x="4343400" y="2133720"/>
            <a:ext cx="4572000" cy="123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rPr>
              <a:t>La necesidad</a:t>
            </a:r>
            <a:endPar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ea typeface="Calligraph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rPr>
              <a:t>de las mujeres</a:t>
            </a:r>
            <a:endParaRPr b="1" i="1" lang="en-US" sz="1800" spc="1" strike="noStrike">
              <a:ln w="9360">
                <a:solidFill>
                  <a:srgbClr val="800000"/>
                </a:solidFill>
                <a:miter/>
              </a:ln>
              <a:solidFill>
                <a:srgbClr val="800000"/>
              </a:solidFill>
              <a:effectLst>
                <a:outerShdw dist="17819" dir="2700000" blurRad="0" rotWithShape="0">
                  <a:srgbClr val="808080">
                    <a:alpha val="80000"/>
                  </a:srgbClr>
                </a:outerShdw>
              </a:effectLst>
              <a:latin typeface="Calligrapher"/>
              <a:ea typeface="Calligrapher"/>
            </a:endParaRPr>
          </a:p>
        </p:txBody>
      </p:sp>
      <p:sp>
        <p:nvSpPr>
          <p:cNvPr id="59" name=""/>
          <p:cNvSpPr/>
          <p:nvPr/>
        </p:nvSpPr>
        <p:spPr>
          <a:xfrm>
            <a:off x="4495680" y="365760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flipV="1">
            <a:off x="4495680" y="38098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p:nvPr>
        </p:nvSpPr>
        <p:spPr>
          <a:xfrm>
            <a:off x="457200" y="1951200"/>
            <a:ext cx="8229600" cy="4525920"/>
          </a:xfrm>
          <a:prstGeom prst="rect">
            <a:avLst/>
          </a:prstGeom>
          <a:noFill/>
          <a:ln w="0">
            <a:noFill/>
          </a:ln>
        </p:spPr>
        <p:txBody>
          <a:bodyPr lIns="90000" rIns="90000" tIns="46800" bIns="46800" anchor="t">
            <a:normAutofit fontScale="98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a:t>
            </a:r>
            <a:r>
              <a:rPr b="0" lang="es-ES" sz="3200" spc="-1" strike="noStrike">
                <a:solidFill>
                  <a:srgbClr val="000000"/>
                </a:solidFill>
                <a:latin typeface="Trebuchet MS"/>
              </a:rPr>
              <a:t>Llama a mujeres perseverantes, que aparten su atención del yo y la conveniencia personal, y la concentren en Cristo, hablando palabras de verdad, orando con las personas a las cuales tienen acceso, trabajando por la conversión de las almas.” (</a:t>
            </a:r>
            <a:r>
              <a:rPr b="0" i="1" lang="es-ES" sz="3200" spc="-1" strike="noStrike">
                <a:solidFill>
                  <a:srgbClr val="000000"/>
                </a:solidFill>
                <a:latin typeface="Trebuchet MS"/>
              </a:rPr>
              <a:t>Evangelismo</a:t>
            </a:r>
            <a:r>
              <a:rPr b="0" lang="es-ES" sz="3200" spc="-1" strike="noStrike">
                <a:solidFill>
                  <a:srgbClr val="000000"/>
                </a:solidFill>
                <a:latin typeface="Trebuchet MS"/>
              </a:rPr>
              <a:t>, 349-3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p:nvPr>
        </p:nvSpPr>
        <p:spPr>
          <a:xfrm>
            <a:off x="1371240" y="228600"/>
            <a:ext cx="7543800" cy="4525920"/>
          </a:xfrm>
          <a:prstGeom prst="rect">
            <a:avLst/>
          </a:prstGeom>
          <a:noFill/>
          <a:ln w="0">
            <a:noFill/>
          </a:ln>
        </p:spPr>
        <p:txBody>
          <a:bodyPr lIns="90000" rIns="90000" tIns="46800" bIns="46800" anchor="t">
            <a:normAutofit fontScale="80000"/>
          </a:bodyPr>
          <a:p>
            <a:pPr marL="2743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Porqué no habrían las mujeres de cultivar el intelecto? ¿Por qué no habrían de responder al propósito de Dios para su vida? ¿Por qué no podrían ellas darse cuenta de sus propias facultades, conscientes de estos poderes que les son dados por Dios, luchar para hacer uso de ellos en la medida máxima para servir a los demás, para hacer progresar la obra de reforma, de verdad y de verdadero bien al mundo? Satanás sabe que las mujeres tienen un poder de influencia para el bien o para el mal; por lo tanto él trata de alistarlas en su causa (Good Health, junio, 1880).” (</a:t>
            </a:r>
            <a:r>
              <a:rPr b="0" i="1" lang="es-ES" sz="2800" spc="-1" strike="noStrike">
                <a:solidFill>
                  <a:srgbClr val="000000"/>
                </a:solidFill>
                <a:latin typeface="Trebuchet MS"/>
              </a:rPr>
              <a:t>Evangelismo</a:t>
            </a:r>
            <a:r>
              <a:rPr b="0" lang="es-ES" sz="2800" spc="-1" strike="noStrike">
                <a:solidFill>
                  <a:srgbClr val="000000"/>
                </a:solidFill>
                <a:latin typeface="Trebuchet MS"/>
              </a:rPr>
              <a:t>, p. 34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4000" cy="6858000"/>
          </a:xfrm>
          <a:prstGeom prst="rect">
            <a:avLst/>
          </a:prstGeom>
          <a:ln w="0">
            <a:noFill/>
          </a:ln>
        </p:spPr>
      </p:pic>
      <p:sp>
        <p:nvSpPr>
          <p:cNvPr id="106" name="PlaceHolder 1"/>
          <p:cNvSpPr>
            <a:spLocks noGrp="1"/>
          </p:cNvSpPr>
          <p:nvPr>
            <p:ph/>
          </p:nvPr>
        </p:nvSpPr>
        <p:spPr>
          <a:xfrm>
            <a:off x="2666880" y="380880"/>
            <a:ext cx="6477120" cy="4525920"/>
          </a:xfrm>
          <a:prstGeom prst="rect">
            <a:avLst/>
          </a:prstGeom>
          <a:noFill/>
          <a:ln w="0">
            <a:noFill/>
          </a:ln>
        </p:spPr>
        <p:txBody>
          <a:bodyPr lIns="90000" rIns="90000" tIns="46800" bIns="46800"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Nuestras hermanas, las jóvenes, las de edad madura y las ancianas, pueden desempeñar una parte en la terminación de la obra para este tiempo; y al hacerlo a medida que tienen oportunidad obtendrán una experiencia del valor más alto. Al olvidarse del yo crecerán en la gracia. Al ejercitar la mente en esta dirección, aprenderán cómo llevar cargas para Jesús (Review and Herald, 2 de enero, 1879).”</a:t>
            </a:r>
            <a:endParaRPr b="0" lang="en-US" sz="2800" spc="-1" strike="noStrike">
              <a:solidFill>
                <a:srgbClr val="000000"/>
              </a:solidFill>
              <a:latin typeface="Arial"/>
            </a:endParaRPr>
          </a:p>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t>
            </a:r>
            <a:r>
              <a:rPr b="0" i="1" lang="es-ES" sz="2800" spc="-1" strike="noStrike">
                <a:solidFill>
                  <a:srgbClr val="ffffff"/>
                </a:solidFill>
                <a:latin typeface="Trebuchet MS"/>
              </a:rPr>
              <a:t>Evangelismo</a:t>
            </a:r>
            <a:r>
              <a:rPr b="0" lang="es-ES" sz="2800" spc="-1" strike="noStrike">
                <a:solidFill>
                  <a:srgbClr val="ffffff"/>
                </a:solidFill>
                <a:latin typeface="Trebuchet MS"/>
              </a:rPr>
              <a:t>, 342)</a:t>
            </a:r>
            <a:endParaRPr b="0" lang="en-US" sz="2800" spc="-1" strike="noStrike">
              <a:solidFill>
                <a:srgbClr val="000000"/>
              </a:solidFill>
              <a:latin typeface="Arial"/>
            </a:endParaRPr>
          </a:p>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txBox="1"/>
          <p:nvPr/>
        </p:nvSpPr>
        <p:spPr>
          <a:xfrm>
            <a:off x="380880" y="2095560"/>
            <a:ext cx="54864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Misión en la Familia</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09" name=""/>
          <p:cNvSpPr/>
          <p:nvPr/>
        </p:nvSpPr>
        <p:spPr>
          <a:xfrm>
            <a:off x="0" y="32767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10" name=""/>
          <p:cNvSpPr/>
          <p:nvPr/>
        </p:nvSpPr>
        <p:spPr>
          <a:xfrm>
            <a:off x="1143000" y="35053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p:nvPr>
        </p:nvSpPr>
        <p:spPr>
          <a:xfrm>
            <a:off x="-360" y="1646280"/>
            <a:ext cx="8839080" cy="452592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Las dos personas que unen su interés en la vida tendrán distintas características y responsabilidades individuales. Cada uno tendrá su trabajo, pero no se ha de valorar a las mujeres por el trabajo que puedan hacer como se estiman las bestias de carga. La esposa ha de agraciar el círculo familiar como esposa y compañera de un esposo sabio. A cada paso debe ella preguntarse: "¿Es ésta la norma de la verdadera femineidad?" y: "¿Cómo haré para que mi influencia sea como la de Cristo en mi hogar?" El marido debe dejar saber a su esposa que él aprecia su trabajo.  Manuscrito 17, 189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PlaceHolder 1"/>
          <p:cNvSpPr>
            <a:spLocks noGrp="1"/>
          </p:cNvSpPr>
          <p:nvPr>
            <p:ph/>
          </p:nvPr>
        </p:nvSpPr>
        <p:spPr>
          <a:xfrm>
            <a:off x="152280" y="1752120"/>
            <a:ext cx="8839440" cy="4907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La esposa ha de respetar a su marido. El ha de amar y apreciarla a ella: y así como los une el voto matrimonial, su creencia en Cristo debe hacerlos uno en él. ¿Qué podría agradar más a Dios que el ver a los que contraen matrimonio procurar juntos aprender de Jesús y llegar a compenetrarse cada vez más de su Espíritu?”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Hogar Cristiano</a:t>
            </a:r>
            <a:r>
              <a:rPr b="0" lang="es-ES" sz="3200" spc="-1" strike="noStrike">
                <a:solidFill>
                  <a:srgbClr val="000000"/>
                </a:solidFill>
                <a:latin typeface="Trebuchet MS"/>
              </a:rPr>
              <a:t>, p. 99 [189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858000"/>
          </a:xfrm>
          <a:prstGeom prst="rect">
            <a:avLst/>
          </a:prstGeom>
          <a:ln w="0">
            <a:noFill/>
          </a:ln>
        </p:spPr>
      </p:pic>
      <p:sp>
        <p:nvSpPr>
          <p:cNvPr id="116" name="PlaceHolder 1"/>
          <p:cNvSpPr>
            <a:spLocks noGrp="1"/>
          </p:cNvSpPr>
          <p:nvPr>
            <p:ph/>
          </p:nvPr>
        </p:nvSpPr>
        <p:spPr>
          <a:xfrm>
            <a:off x="75960" y="1752120"/>
            <a:ext cx="876276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Ni el marido ni la mujer deben fundir su individualidad en la de su cónyuge. Cada cual tiene su relación personal con Dios. A él tiene que preguntarle cada uno: “</a:t>
            </a:r>
            <a:r>
              <a:rPr b="0" lang="es-ES" sz="2800" spc="-1" strike="noStrike">
                <a:solidFill>
                  <a:srgbClr val="000000"/>
                </a:solidFill>
                <a:latin typeface="Arial"/>
              </a:rPr>
              <a:t>¿Que es bueno? ¿Qué es malo? ¿Cómo cumpliré mejor el propósito de la vida?” Fluya el caudal del cariño de cada uno hacia Aquel que dio su vida por ellos. Considérese a Cristo el primero, el último y el mejor en todo. En la medida en que vuestro amor a Cristo se profundice y fortalezca, se purificará y fortalecerá vuestro amor mutuo</a:t>
            </a:r>
            <a:r>
              <a:rPr b="0" lang="es-E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Curación</a:t>
            </a:r>
            <a:r>
              <a:rPr b="0" lang="es-ES" sz="2800" spc="-1" strike="noStrike">
                <a:solidFill>
                  <a:srgbClr val="000000"/>
                </a:solidFill>
                <a:latin typeface="Trebuchet MS"/>
              </a:rPr>
              <a:t>, p. 27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1294920" y="228240"/>
            <a:ext cx="7696440" cy="4830840"/>
          </a:xfrm>
          <a:prstGeom prst="rect">
            <a:avLst/>
          </a:prstGeom>
          <a:noFill/>
          <a:ln w="0">
            <a:noFill/>
          </a:ln>
        </p:spPr>
        <p:txBody>
          <a:bodyPr lIns="90000" rIns="90000" tIns="46800" bIns="46800" anchor="t">
            <a:normAutofit fontScale="86000"/>
          </a:bodyPr>
          <a:p>
            <a:pPr indent="0">
              <a:lnSpc>
                <a:spcPct val="1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rebuchet MS"/>
              </a:rPr>
              <a:t>“</a:t>
            </a:r>
            <a:r>
              <a:rPr b="0" lang="es-ES" sz="2700" spc="-1" strike="noStrike">
                <a:solidFill>
                  <a:srgbClr val="000000"/>
                </a:solidFill>
                <a:latin typeface="Trebuchet MS"/>
              </a:rPr>
              <a:t>Una familia bien ordenada y disciplinada influye más en favor del cristianismo que todos los sermones que se puedan predicar. Una familia tal prueba que los padres han sabido seguir las instrucciones de Dios y que los hijos le servirán en la iglesia. La influencia de ellos aumenta; porque a medida que dan a otros, reciben para seguir dando. El padre y la madre hallan en sus hijos auxiliadores que comunican a otros la instrucción recibida en el hogar. El vecindario en el cual viven recibe ayuda, porque se enriquece para esta vida y para la eternidad.” Hogar Cristiano, p. 26</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p:nvPr>
        </p:nvSpPr>
        <p:spPr>
          <a:xfrm>
            <a:off x="152280" y="1371600"/>
            <a:ext cx="8763120" cy="5029200"/>
          </a:xfrm>
          <a:prstGeom prst="rect">
            <a:avLst/>
          </a:prstGeom>
          <a:noFill/>
          <a:ln w="0">
            <a:noFill/>
          </a:ln>
        </p:spPr>
        <p:txBody>
          <a:bodyPr lIns="90000" rIns="90000" tIns="46800" bIns="46800" anchor="t">
            <a:normAutofit fontScale="95000"/>
          </a:bodyPr>
          <a:p>
            <a:pPr marL="32580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Puede muy bien decirse que los deberes distintivos de la mujer son más sagrados y más santos, que los del hombre. Comprenda ella el carácter sagrado de su obra y con la fuerza y el temor de Dios, emprenda su misión en la vida. Eduque a sus hijos para que sean útiles en este mundo y obtengan un hogar en el mundo mejor.</a:t>
            </a:r>
            <a:endParaRPr b="0" lang="en-US" sz="32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Christian Temperance and Bible Hygiene, p. 77</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 2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934320"/>
          </a:xfrm>
          <a:prstGeom prst="rect">
            <a:avLst/>
          </a:prstGeom>
          <a:ln w="0">
            <a:noFill/>
          </a:ln>
        </p:spPr>
      </p:pic>
      <p:sp>
        <p:nvSpPr>
          <p:cNvPr id="62" name="PlaceHolder 1"/>
          <p:cNvSpPr>
            <a:spLocks noGrp="1"/>
          </p:cNvSpPr>
          <p:nvPr>
            <p:ph/>
          </p:nvPr>
        </p:nvSpPr>
        <p:spPr>
          <a:xfrm>
            <a:off x="3885840" y="762120"/>
            <a:ext cx="4876920" cy="5410080"/>
          </a:xfrm>
          <a:prstGeom prst="rect">
            <a:avLst/>
          </a:prstGeom>
          <a:noFill/>
          <a:ln w="0">
            <a:noFill/>
          </a:ln>
        </p:spPr>
        <p:txBody>
          <a:bodyPr lIns="90000" rIns="90000" tIns="46800" bIns="46800"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a:t>
            </a:r>
            <a:r>
              <a:rPr b="0" lang="es-ES" sz="2400" spc="-1" strike="noStrike">
                <a:solidFill>
                  <a:srgbClr val="000000"/>
                </a:solidFill>
                <a:latin typeface="Trebuchet MS"/>
              </a:rPr>
              <a:t>Deberían designarse mujeres que estén dispuestas a consagrar parte de su tiempo al servicio del Señor ... deberíamos ampliar más nuestros métodos de trabajo. Ninguna mano debería ser impedida, ninguna alma debería ser desanimada, ninguna voz silenciada</a:t>
            </a:r>
            <a:r>
              <a:rPr b="0" lang="es-ES" sz="2000" spc="-1" strike="noStrike">
                <a:solidFill>
                  <a:srgbClr val="000000"/>
                </a:solidFill>
                <a:latin typeface="Trebuchet MS"/>
              </a:rPr>
              <a:t>; </a:t>
            </a:r>
            <a:endParaRPr b="0" lang="en-US" sz="2000" spc="-1" strike="noStrike">
              <a:solidFill>
                <a:srgbClr val="000000"/>
              </a:solidFill>
              <a:latin typeface="Arial"/>
            </a:endParaRPr>
          </a:p>
          <a:p>
            <a:pPr marL="343080" indent="0" algn="ctr">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p:nvPr>
        </p:nvSpPr>
        <p:spPr>
          <a:xfrm>
            <a:off x="1294920" y="380520"/>
            <a:ext cx="7543800" cy="6629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Al rey en su trono no incumbe una obra superior a la de la madre. Esta es la reina de su familia. A ella le toca modelar el carácter de sus hijos, a fin de que sean idóneos para la vida superior e inmortal. Un ángel no podría pedir una misión más elevada; porque mientras realiza esta obra la madre está sirviendo a Dios. Si tan sólo comprende ella el alto carácter de su tarea, le inspirará valor. Percátese del valor de su obra y vístase de toda la armadura de Dios a fin de resistir a la tentación de conformarse con la norma del mundo. Ella obra para este tiempo y para la eternidad. Signs of the Times, 16 de marzo de 189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p. 206-2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1600200" y="274680"/>
            <a:ext cx="7391520" cy="4525920"/>
          </a:xfrm>
          <a:prstGeom prst="rect">
            <a:avLst/>
          </a:prstGeom>
          <a:noFill/>
          <a:ln w="0">
            <a:noFill/>
          </a:ln>
        </p:spPr>
        <p:txBody>
          <a:bodyPr lIns="90000" rIns="90000" tIns="46800" bIns="46800" anchor="t">
            <a:normAutofit fontScale="83000"/>
          </a:bodyPr>
          <a:p>
            <a:pPr marL="284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Si Vd. pasa por alto su deber como esposa y madre, y extiende las manos para que el Señor le confíe otra clase de trabajo, tenga por seguro que él no se contradirá; le señala el deber que Vd. debe hacer en casa. Si Vd. piensa que le ha sido confiada alguna obra mayor y más santa, está equivocada. Siendo fiel en su hogar y trabajando por las almas de aquellos que están más cerca de Vd., puede obtener idoneidad para trabajar por Cristo en un campo más amplio. Pero tenga la seguridad de que quienes descuidan su deber en el círculo familiar no están preparados para trabajar en favor de otras alm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3352320" y="837720"/>
            <a:ext cx="5791320" cy="5410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Las esposas y las madres, no deberían en ninguna circunstancia descuidar a sus esposos y a sus hijos, pero pueden realizar mucho sin descuidar las tareas del hogar y no todas tienen estas responsabilidades.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ST, 16 de setiembre de 1889.”</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la bondad</a:t>
            </a:r>
            <a:r>
              <a:rPr b="0" lang="es-ES" sz="2800" spc="-1" strike="noStrike">
                <a:solidFill>
                  <a:srgbClr val="000000"/>
                </a:solidFill>
                <a:latin typeface="Trebuchet MS"/>
              </a:rPr>
              <a:t>, p. 17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p:nvPr>
        </p:nvSpPr>
        <p:spPr>
          <a:xfrm>
            <a:off x="1600200" y="457200"/>
            <a:ext cx="7391520" cy="4525920"/>
          </a:xfrm>
          <a:prstGeom prst="rect">
            <a:avLst/>
          </a:prstGeom>
          <a:noFill/>
          <a:ln w="0">
            <a:noFill/>
          </a:ln>
        </p:spPr>
        <p:txBody>
          <a:bodyPr lIns="90000" rIns="90000" tIns="46800" bIns="46800"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La esfera de utilidad que incumbe a la madre cristiana no debe quedar estrechada por su vida doméstica. La influencia saludable que ella ejerce en el círculo familiar puede hacerla sentir, y así lo hará, en una utilidad más amplia dentro de su vecindario y en la iglesia de Dios. El hogar no es una cárcel para la esposa y madre consagrada.</a:t>
            </a:r>
            <a:r>
              <a:rPr b="0" lang="es-ES" sz="3200" spc="-1" strike="noStrike">
                <a:solidFill>
                  <a:srgbClr val="000000"/>
                </a:solidFill>
                <a:latin typeface="Trebuchet MS"/>
              </a:rPr>
              <a:t>	</a:t>
            </a:r>
            <a:r>
              <a:rPr b="0" lang="es-ES" sz="2800" spc="-1" strike="noStrike">
                <a:solidFill>
                  <a:srgbClr val="000000"/>
                </a:solidFill>
                <a:latin typeface="Trebuchet MS"/>
              </a:rPr>
              <a:t>Pacific Health Journal, junio de 1890.”</a:t>
            </a:r>
            <a:endParaRPr b="0" lang="en-US" sz="2800" spc="-1" strike="noStrike">
              <a:solidFill>
                <a:srgbClr val="000000"/>
              </a:solidFill>
              <a:latin typeface="Arial"/>
            </a:endParaRPr>
          </a:p>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Hogar Cristiano</a:t>
            </a:r>
            <a:r>
              <a:rPr b="0" lang="es-ES" sz="2800" spc="-1" strike="noStrike">
                <a:solidFill>
                  <a:srgbClr val="000000"/>
                </a:solidFill>
                <a:latin typeface="Trebuchet MS"/>
              </a:rPr>
              <a:t>, p. 21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0" y="0"/>
            <a:ext cx="9144000" cy="6858000"/>
          </a:xfrm>
          <a:prstGeom prst="rect">
            <a:avLst/>
          </a:prstGeom>
          <a:ln w="0">
            <a:noFill/>
          </a:ln>
        </p:spPr>
      </p:pic>
      <p:sp>
        <p:nvSpPr>
          <p:cNvPr id="134" name=""/>
          <p:cNvSpPr txBox="1"/>
          <p:nvPr/>
        </p:nvSpPr>
        <p:spPr>
          <a:xfrm>
            <a:off x="295200" y="1981080"/>
            <a:ext cx="53434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Misión en el Mundo</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35" name=""/>
          <p:cNvSpPr/>
          <p:nvPr/>
        </p:nvSpPr>
        <p:spPr>
          <a:xfrm>
            <a:off x="1066680" y="32767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36" name=""/>
          <p:cNvSpPr/>
          <p:nvPr/>
        </p:nvSpPr>
        <p:spPr>
          <a:xfrm>
            <a:off x="0" y="31240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858000"/>
          </a:xfrm>
          <a:prstGeom prst="rect">
            <a:avLst/>
          </a:prstGeom>
          <a:ln w="0">
            <a:noFill/>
          </a:ln>
        </p:spPr>
      </p:pic>
      <p:sp>
        <p:nvSpPr>
          <p:cNvPr id="138" name="PlaceHolder 1"/>
          <p:cNvSpPr>
            <a:spLocks noGrp="1"/>
          </p:cNvSpPr>
          <p:nvPr>
            <p:ph/>
          </p:nvPr>
        </p:nvSpPr>
        <p:spPr>
          <a:xfrm>
            <a:off x="457200" y="1752480"/>
            <a:ext cx="8229600" cy="4983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Arial"/>
              </a:rPr>
              <a:t>Necesitamos grandemente mujeres consagradas que, como mensajeras de misericordia visiten a las madres y a los niños en sus hogares y les ayuden en las tareas diarias del hogar, si fuera necesario, antes de comenzar a hablarles acerca de la verdad para este tiempo. Encontraréis que por este método tendréis almas como resultado de vuestro ministerio (Review and Herald, 12-7-1906).”</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400" spc="-1" strike="noStrike">
                <a:solidFill>
                  <a:srgbClr val="000000"/>
                </a:solidFill>
                <a:latin typeface="Trebuchet MS"/>
              </a:rPr>
              <a:t>(</a:t>
            </a:r>
            <a:r>
              <a:rPr b="0" i="1" lang="es-ES" sz="2400" spc="-1" strike="noStrike">
                <a:solidFill>
                  <a:srgbClr val="000000"/>
                </a:solidFill>
                <a:latin typeface="Trebuchet MS"/>
              </a:rPr>
              <a:t>Ministerio de la Bondad</a:t>
            </a:r>
            <a:r>
              <a:rPr b="0" lang="es-ES" sz="2400" spc="-1" strike="noStrike">
                <a:solidFill>
                  <a:srgbClr val="000000"/>
                </a:solidFill>
                <a:latin typeface="Trebuchet MS"/>
              </a:rPr>
              <a:t>, 152)</a:t>
            </a:r>
            <a:endParaRPr b="0" lang="en-US" sz="2400" spc="-1" strike="noStrike">
              <a:solidFill>
                <a:srgbClr val="000000"/>
              </a:solidFill>
              <a:latin typeface="Arial"/>
            </a:endParaRPr>
          </a:p>
        </p:txBody>
      </p:sp>
      <p:sp>
        <p:nvSpPr>
          <p:cNvPr id="139" name=""/>
          <p:cNvSpPr txBox="1"/>
          <p:nvPr/>
        </p:nvSpPr>
        <p:spPr>
          <a:xfrm>
            <a:off x="152280" y="304920"/>
            <a:ext cx="73152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8000"/>
                  </a:solidFill>
                  <a:miter/>
                </a:ln>
                <a:solidFill>
                  <a:srgbClr val="008000"/>
                </a:solidFill>
                <a:effectLst>
                  <a:outerShdw dist="17819" dir="2700000" blurRad="0" rotWithShape="0">
                    <a:srgbClr val="000000">
                      <a:alpha val="80000"/>
                    </a:srgbClr>
                  </a:outerShdw>
                </a:effectLst>
                <a:latin typeface="Calligrapher"/>
              </a:rPr>
              <a:t>Un trabajo especial para las mujeres</a:t>
            </a:r>
            <a:endParaRPr b="1" i="1" lang="en-US" sz="1800" spc="1" strike="noStrike">
              <a:ln w="9360">
                <a:solidFill>
                  <a:srgbClr val="008000"/>
                </a:solidFill>
                <a:miter/>
              </a:ln>
              <a:solidFill>
                <a:srgbClr val="008000"/>
              </a:solidFill>
              <a:effectLst>
                <a:outerShdw dist="17819" dir="2700000" blurRad="0" rotWithShape="0">
                  <a:srgbClr val="000000">
                    <a:alpha val="80000"/>
                  </a:srgbClr>
                </a:outerShdw>
              </a:effectLst>
              <a:latin typeface="Calligrapher"/>
              <a:ea typeface="Calligrapher"/>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858000"/>
          </a:xfrm>
          <a:prstGeom prst="rect">
            <a:avLst/>
          </a:prstGeom>
          <a:ln w="0">
            <a:noFill/>
          </a:ln>
        </p:spPr>
      </p:pic>
      <p:sp>
        <p:nvSpPr>
          <p:cNvPr id="141" name="PlaceHolder 1"/>
          <p:cNvSpPr>
            <a:spLocks noGrp="1"/>
          </p:cNvSpPr>
          <p:nvPr>
            <p:ph/>
          </p:nvPr>
        </p:nvSpPr>
        <p:spPr>
          <a:xfrm>
            <a:off x="3124080" y="351000"/>
            <a:ext cx="6096240" cy="4525920"/>
          </a:xfrm>
          <a:prstGeom prst="rect">
            <a:avLst/>
          </a:prstGeom>
          <a:noFill/>
          <a:ln w="0">
            <a:noFill/>
          </a:ln>
        </p:spPr>
        <p:txBody>
          <a:bodyPr anchor="t">
            <a:normAutofit fontScale="84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Las hermanas pueden hacer mucho para alcanzar los corazones y enternecerles. Dondequiera que estéis, mis hermanas, trabajad con sencillez. Si estáis en un hogar donde hay niños, demostrad interés en ellos. Vean ellos que los amáis. Si uno está enfermo, ofreceos para darle un tratamiento; ayudad a la angustiada y ansiosa madre a aliviar a su doliente hijo. Review and Herald, 11 de noviembre de 1902.”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i="1" lang="es-ES" sz="2800" spc="-1" strike="noStrike">
                <a:solidFill>
                  <a:srgbClr val="000000"/>
                </a:solidFill>
                <a:latin typeface="Trebuchet MS"/>
              </a:rPr>
              <a:t>Ministerio de la bondad</a:t>
            </a:r>
            <a:r>
              <a:rPr b="0" lang="es-ES" sz="2800" spc="-1" strike="noStrike">
                <a:solidFill>
                  <a:srgbClr val="000000"/>
                </a:solidFill>
                <a:latin typeface="Trebuchet MS"/>
              </a:rPr>
              <a:t>, p. 169-17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p:nvPr>
        </p:nvSpPr>
        <p:spPr>
          <a:xfrm>
            <a:off x="914040" y="503280"/>
            <a:ext cx="8077320" cy="4525920"/>
          </a:xfrm>
          <a:prstGeom prst="rect">
            <a:avLst/>
          </a:prstGeom>
          <a:noFill/>
          <a:ln w="0">
            <a:noFill/>
          </a:ln>
        </p:spPr>
        <p:txBody>
          <a:bodyPr lIns="90000" rIns="90000" tIns="46800" bIns="46800" anchor="t">
            <a:normAutofit fontScale="86000"/>
          </a:bodyPr>
          <a:p>
            <a:pPr marL="2948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	</a:t>
            </a:r>
            <a:r>
              <a:rPr b="0" lang="es-ES" sz="2400" spc="-1" strike="noStrike">
                <a:solidFill>
                  <a:srgbClr val="000000"/>
                </a:solidFill>
                <a:latin typeface="Trebuchet MS"/>
              </a:rPr>
              <a:t>“</a:t>
            </a:r>
            <a:r>
              <a:rPr b="0" lang="es-ES" sz="2400" spc="-1" strike="noStrike">
                <a:solidFill>
                  <a:srgbClr val="000000"/>
                </a:solidFill>
                <a:latin typeface="Trebuchet MS"/>
              </a:rPr>
              <a:t>El Señor tiene una obra tanto para las mujeres como para los hombres. Ellas pueden ocupar sus lugares en la obra de Dios en esta crisis y él trabajará por medio de ellas. Si están imbuidas con el sentido de su deber y trabajan bajo la influencia del Espíritu Santo, tendrán precisamente el dominio propio que se requiere para este tiempo. El Salvador reflejará sobre estas abnegadas mujeres la luz de su semblante y les dará un poder que sobrepuje al de los hombres. Pueden hacer en las familias una obra que los hombres no pueden hacer, una obra que llega hasta la vida íntima. Pueden acercarse al corazón de aquellas personas a las cuales los hombres no pueden llegar. Se necesita su obra (Review and Herald, 26-8-1902).” </a:t>
            </a:r>
            <a:r>
              <a:rPr b="0" lang="es-ES" sz="2400" spc="-1" strike="noStrike">
                <a:solidFill>
                  <a:srgbClr val="000000"/>
                </a:solidFill>
                <a:latin typeface="Trebuchet MS"/>
              </a:rPr>
              <a:t>	</a:t>
            </a:r>
            <a:r>
              <a:rPr b="0" lang="es-ES" sz="2400" spc="-1" strike="noStrike">
                <a:solidFill>
                  <a:srgbClr val="000000"/>
                </a:solidFill>
                <a:latin typeface="Trebuchet MS"/>
              </a:rPr>
              <a:t>(</a:t>
            </a:r>
            <a:r>
              <a:rPr b="0" i="1" lang="es-ES" sz="2400" spc="-1" strike="noStrike">
                <a:solidFill>
                  <a:srgbClr val="000000"/>
                </a:solidFill>
                <a:latin typeface="Trebuchet MS"/>
              </a:rPr>
              <a:t>Ministerio de la bondad, </a:t>
            </a:r>
            <a:r>
              <a:rPr b="0" lang="es-ES" sz="2400" spc="-1" strike="noStrike">
                <a:solidFill>
                  <a:srgbClr val="000000"/>
                </a:solidFill>
                <a:latin typeface="Trebuchet MS"/>
              </a:rPr>
              <a:t>p. 15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858000"/>
          </a:xfrm>
          <a:prstGeom prst="rect">
            <a:avLst/>
          </a:prstGeom>
          <a:ln w="0">
            <a:noFill/>
          </a:ln>
        </p:spPr>
      </p:pic>
      <p:sp>
        <p:nvSpPr>
          <p:cNvPr id="145" name="PlaceHolder 1"/>
          <p:cNvSpPr>
            <a:spLocks noGrp="1"/>
          </p:cNvSpPr>
          <p:nvPr>
            <p:ph/>
          </p:nvPr>
        </p:nvSpPr>
        <p:spPr>
          <a:xfrm>
            <a:off x="1980720" y="351000"/>
            <a:ext cx="7086600" cy="4525920"/>
          </a:xfrm>
          <a:prstGeom prst="rect">
            <a:avLst/>
          </a:prstGeom>
          <a:noFill/>
          <a:ln w="0">
            <a:noFill/>
          </a:ln>
        </p:spPr>
        <p:txBody>
          <a:bodyPr lIns="90000" rIns="90000" tIns="46800" bIns="46800" anchor="t">
            <a:normAutofit fontScale="86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3000" spc="-1" strike="noStrike">
                <a:solidFill>
                  <a:srgbClr val="000000"/>
                </a:solidFill>
                <a:latin typeface="Trebuchet MS"/>
              </a:rPr>
              <a:t>Carecemos de acciones de simpatía y de benevolencia en el ministerio consagrado y social al necesitado, oprimido y sufriente. Se necesitan  mujeres que puedan trabajar ahora, mujeres que no son presuntuosas, sino humildes y no pretenciosas de corazón, y que trabajarán con la humildad de Cristo donde quiera que encuentren trabajo a ser hecho por la salvación de las almas.</a:t>
            </a:r>
            <a:r>
              <a:rPr b="0" lang="es-ES" sz="2800" spc="-1" strike="noStrike">
                <a:solidFill>
                  <a:srgbClr val="000000"/>
                </a:solidFill>
                <a:latin typeface="Trebuchet MS"/>
              </a:rPr>
              <a:t>	</a:t>
            </a:r>
            <a:r>
              <a:rPr b="0" lang="es-ES" sz="2800" spc="-1" strike="noStrike">
                <a:solidFill>
                  <a:srgbClr val="000000"/>
                </a:solidFill>
                <a:latin typeface="Trebuchet MS"/>
              </a:rPr>
              <a:t>Review and Herald, 2 de enero de 1879.”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i="1" lang="es-ES" sz="2800" spc="-1" strike="noStrike">
                <a:solidFill>
                  <a:srgbClr val="000000"/>
                </a:solidFill>
                <a:latin typeface="Trebuchet MS"/>
              </a:rPr>
              <a:t>Daughters of God, p.</a:t>
            </a:r>
            <a:r>
              <a:rPr b="0" lang="es-ES" sz="2800" spc="-1" strike="noStrike">
                <a:solidFill>
                  <a:srgbClr val="000000"/>
                </a:solidFill>
                <a:latin typeface="Trebuchet MS"/>
              </a:rPr>
              <a:t> 1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 name="" descr=""/>
          <p:cNvPicPr/>
          <p:nvPr/>
        </p:nvPicPr>
        <p:blipFill>
          <a:blip r:embed="rId1"/>
          <a:stretch/>
        </p:blipFill>
        <p:spPr>
          <a:xfrm>
            <a:off x="0" y="0"/>
            <a:ext cx="9144000" cy="6858000"/>
          </a:xfrm>
          <a:prstGeom prst="rect">
            <a:avLst/>
          </a:prstGeom>
          <a:ln w="0">
            <a:noFill/>
          </a:ln>
        </p:spPr>
      </p:pic>
      <p:sp>
        <p:nvSpPr>
          <p:cNvPr id="149" name=""/>
          <p:cNvSpPr txBox="1"/>
          <p:nvPr/>
        </p:nvSpPr>
        <p:spPr>
          <a:xfrm>
            <a:off x="228600" y="2286000"/>
            <a:ext cx="54100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Tomar parte en la Obra</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
        <p:nvSpPr>
          <p:cNvPr id="150" name=""/>
          <p:cNvSpPr/>
          <p:nvPr/>
        </p:nvSpPr>
        <p:spPr>
          <a:xfrm>
            <a:off x="0" y="3352680"/>
            <a:ext cx="4648320" cy="76320"/>
          </a:xfrm>
          <a:prstGeom prst="rect">
            <a:avLst/>
          </a:prstGeom>
          <a:solidFill>
            <a:srgbClr val="006600"/>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51" name=""/>
          <p:cNvSpPr/>
          <p:nvPr/>
        </p:nvSpPr>
        <p:spPr>
          <a:xfrm>
            <a:off x="1523880" y="3505320"/>
            <a:ext cx="4648320" cy="75960"/>
          </a:xfrm>
          <a:prstGeom prst="rect">
            <a:avLst/>
          </a:prstGeom>
          <a:solidFill>
            <a:srgbClr val="006600"/>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2895480" y="152280"/>
            <a:ext cx="6400800" cy="551664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rebuchet MS"/>
              </a:rPr>
              <a:t>	</a:t>
            </a:r>
            <a:r>
              <a:rPr b="1" lang="pt-BR" sz="2800" spc="-1" strike="noStrike">
                <a:solidFill>
                  <a:srgbClr val="000000"/>
                </a:solidFill>
                <a:latin typeface="Trebuchet MS"/>
              </a:rPr>
              <a:t>que cada individuo possa trabalhar, particularmente ou em público, para ajudar a apressar esta grande obra. Que seja posta sobre homens e mulheres da </a:t>
            </a:r>
            <a:r>
              <a:rPr b="1" lang="es-ES" sz="2800" spc="-1" strike="noStrike">
                <a:solidFill>
                  <a:srgbClr val="000000"/>
                </a:solidFill>
                <a:latin typeface="Trebuchet MS"/>
              </a:rPr>
              <a:t>que cada individuo pueda trabajar, particularmente o en público,</a:t>
            </a:r>
            <a:endParaRPr b="0" lang="en-US" sz="28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 </a:t>
            </a:r>
            <a:r>
              <a:rPr b="1" lang="es-ES" sz="2800" spc="-1" strike="noStrike">
                <a:solidFill>
                  <a:srgbClr val="000000"/>
                </a:solidFill>
                <a:latin typeface="Trebuchet MS"/>
              </a:rPr>
              <a:t>para apresurar esta gran obra. </a:t>
            </a:r>
            <a:endParaRPr b="0" lang="en-US" sz="28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Que sea puesta sobre hombres y mujeres de la iglesia la responsabilidad para que puedan crecer por el ejercicio y así convertirse en agentes eficientes en las manos del Señor para iluminar a los que están en las tinieblas.</a:t>
            </a:r>
            <a:endParaRPr b="0" lang="en-US" sz="2800" spc="-1" strike="noStrike">
              <a:solidFill>
                <a:srgbClr val="000000"/>
              </a:solidFill>
              <a:latin typeface="Arial"/>
            </a:endParaRPr>
          </a:p>
          <a:p>
            <a:pPr marL="305280" indent="-3052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 Review and Herald, 9 de julio de 1895</a:t>
            </a:r>
            <a:r>
              <a:rPr b="1" lang="pt-BR" sz="2800" spc="-1" strike="noStrike">
                <a:solidFill>
                  <a:srgbClr val="000000"/>
                </a:solidFill>
                <a:latin typeface="Trebuchet MS"/>
              </a:rPr>
              <a:t> </a:t>
            </a:r>
            <a:r>
              <a:rPr b="1" lang="en-US" sz="2800" spc="-1" strike="noStrike">
                <a:solidFill>
                  <a:srgbClr val="000000"/>
                </a:solidFill>
                <a:latin typeface="Trebuchet MS"/>
              </a:rPr>
              <a:t>(</a:t>
            </a:r>
            <a:r>
              <a:rPr b="1" i="1" lang="en-US" sz="2800" spc="-1" strike="noStrike">
                <a:solidFill>
                  <a:srgbClr val="000000"/>
                </a:solidFill>
                <a:latin typeface="Trebuchet MS"/>
              </a:rPr>
              <a:t>Daughters of God</a:t>
            </a:r>
            <a:r>
              <a:rPr b="1" lang="en-US" sz="2800" spc="-1" strike="noStrike">
                <a:solidFill>
                  <a:srgbClr val="000000"/>
                </a:solidFill>
                <a:latin typeface="Trebuchet MS"/>
              </a:rPr>
              <a:t>, p. 10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4000" cy="6858000"/>
          </a:xfrm>
          <a:prstGeom prst="rect">
            <a:avLst/>
          </a:prstGeom>
          <a:ln w="0">
            <a:noFill/>
          </a:ln>
        </p:spPr>
      </p:pic>
      <p:sp>
        <p:nvSpPr>
          <p:cNvPr id="153" name="PlaceHolder 1"/>
          <p:cNvSpPr>
            <a:spLocks noGrp="1"/>
          </p:cNvSpPr>
          <p:nvPr>
            <p:ph/>
          </p:nvPr>
        </p:nvSpPr>
        <p:spPr>
          <a:xfrm>
            <a:off x="1676160" y="685440"/>
            <a:ext cx="7010280" cy="518148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lang="es-ES" sz="3200" spc="-1" strike="noStrike">
                <a:solidFill>
                  <a:srgbClr val="000000"/>
                </a:solidFill>
                <a:latin typeface="Trebuchet MS"/>
              </a:rPr>
              <a:t>Cuando ha de realizarse una obra grande y decisiva, Dios escoge a hombres y mujeres para hacer su obra, y esta obra sentirá la pérdida si los talentos de ambas clases no son combinados (Carta 77, 1898).”  (</a:t>
            </a:r>
            <a:r>
              <a:rPr b="0" i="1" lang="es-ES" sz="3200" spc="-1" strike="noStrike">
                <a:solidFill>
                  <a:srgbClr val="000000"/>
                </a:solidFill>
                <a:latin typeface="Trebuchet MS"/>
              </a:rPr>
              <a:t>Evangelismo</a:t>
            </a:r>
            <a:r>
              <a:rPr b="0" lang="es-ES" sz="3200" spc="-1" strike="noStrike">
                <a:solidFill>
                  <a:srgbClr val="000000"/>
                </a:solidFill>
                <a:latin typeface="Trebuchet MS"/>
              </a:rPr>
              <a:t>, p. 34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6" name="" descr=""/>
          <p:cNvPicPr/>
          <p:nvPr/>
        </p:nvPicPr>
        <p:blipFill>
          <a:blip r:embed="rId1"/>
          <a:stretch/>
        </p:blipFill>
        <p:spPr>
          <a:xfrm>
            <a:off x="0" y="0"/>
            <a:ext cx="9144000" cy="6858000"/>
          </a:xfrm>
          <a:prstGeom prst="rect">
            <a:avLst/>
          </a:prstGeom>
          <a:ln w="0">
            <a:noFill/>
          </a:ln>
        </p:spPr>
      </p:pic>
      <p:sp>
        <p:nvSpPr>
          <p:cNvPr id="157" name=""/>
          <p:cNvSpPr/>
          <p:nvPr/>
        </p:nvSpPr>
        <p:spPr>
          <a:xfrm>
            <a:off x="2133720" y="1266840"/>
            <a:ext cx="6553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a:t>
            </a:r>
            <a:r>
              <a:rPr b="0" lang="es-ES" sz="3200" spc="-1" strike="noStrike">
                <a:solidFill>
                  <a:srgbClr val="000000"/>
                </a:solidFill>
                <a:latin typeface="Trebuchet MS"/>
              </a:rPr>
              <a:t>Hay mujeres que debieran trabajar en el ministerio evangélico. En muchos sentidos harían mayor bien que los ministros que no visitan como deben la grey de Di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Manuscrito 43a, 1898.” (</a:t>
            </a:r>
            <a:r>
              <a:rPr b="0" i="1" lang="es-ES" sz="3200" spc="-1" strike="noStrike">
                <a:solidFill>
                  <a:srgbClr val="000000"/>
                </a:solidFill>
                <a:latin typeface="Trebuchet MS"/>
              </a:rPr>
              <a:t>Evangelismo</a:t>
            </a:r>
            <a:r>
              <a:rPr b="0" lang="es-ES" sz="3200" spc="-1" strike="noStrike">
                <a:solidFill>
                  <a:srgbClr val="000000"/>
                </a:solidFill>
                <a:latin typeface="Trebuchet MS"/>
              </a:rPr>
              <a:t>, p. 345)</a:t>
            </a:r>
            <a:r>
              <a:rPr b="1" lang="es-ES"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1600200" y="456840"/>
            <a:ext cx="7238880" cy="5668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Hay mujeres que están especialmente adaptadas para el trabajo de dar estudios bíblicos y tienen mucho éxito al presentar la Palabra de Dios en su sencillez a otros. Se convierten en una gran bendición al alcanzar a madres y sus hijas. Es una sagrada tarea, y las que se empeñen en ella deben recibir estímulo (Carta 108, 1910).”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3200" spc="-1" strike="noStrike">
                <a:solidFill>
                  <a:srgbClr val="000000"/>
                </a:solidFill>
                <a:latin typeface="Trebuchet MS"/>
              </a:rPr>
              <a:t>(</a:t>
            </a:r>
            <a:r>
              <a:rPr b="0" i="1" lang="es-ES" sz="3200" spc="-1" strike="noStrike">
                <a:solidFill>
                  <a:srgbClr val="000000"/>
                </a:solidFill>
                <a:latin typeface="Trebuchet MS"/>
              </a:rPr>
              <a:t>Ministerio de la bondad</a:t>
            </a:r>
            <a:r>
              <a:rPr b="0" lang="es-ES" sz="3200" spc="-1" strike="noStrike">
                <a:solidFill>
                  <a:srgbClr val="000000"/>
                </a:solidFill>
                <a:latin typeface="Trebuchet MS"/>
              </a:rPr>
              <a:t>, p. 167)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161" name="PlaceHolder 1"/>
          <p:cNvSpPr>
            <a:spLocks noGrp="1"/>
          </p:cNvSpPr>
          <p:nvPr>
            <p:ph/>
          </p:nvPr>
        </p:nvSpPr>
        <p:spPr>
          <a:xfrm>
            <a:off x="1447920" y="883800"/>
            <a:ext cx="7238880" cy="5745240"/>
          </a:xfrm>
          <a:prstGeom prst="rect">
            <a:avLst/>
          </a:prstGeom>
          <a:noFill/>
          <a:ln w="0">
            <a:noFill/>
          </a:ln>
        </p:spPr>
        <p:txBody>
          <a:bodyPr lIns="90000" rIns="90000" tIns="46800" bIns="46800" anchor="t">
            <a:normAutofit/>
          </a:bodyPr>
          <a:p>
            <a:pPr marL="3430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En las variadas ramas de la causa de Dios hay un amplio campo en el cual nuestras hermanas pueden rendir un buen servicio para el Maestro. Muchos ramos de trabajo misionero son descuidados. En las diferentes iglesias, mucho trabajo que se deja sin hacer, o que se hace imperfectamente, podría realizarse bien con la ayuda de nuestras hermanas, si son debidamente instruida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 descr=""/>
          <p:cNvPicPr/>
          <p:nvPr/>
        </p:nvPicPr>
        <p:blipFill>
          <a:blip r:embed="rId1"/>
          <a:stretch/>
        </p:blipFill>
        <p:spPr>
          <a:xfrm>
            <a:off x="0" y="0"/>
            <a:ext cx="9144000" cy="6858000"/>
          </a:xfrm>
          <a:prstGeom prst="rect">
            <a:avLst/>
          </a:prstGeom>
          <a:ln w="0">
            <a:noFill/>
          </a:ln>
        </p:spPr>
      </p:pic>
      <p:sp>
        <p:nvSpPr>
          <p:cNvPr id="165" name=""/>
          <p:cNvSpPr/>
          <p:nvPr/>
        </p:nvSpPr>
        <p:spPr>
          <a:xfrm>
            <a:off x="1905120" y="457200"/>
            <a:ext cx="655308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Por medio de los diversos ramos del esfuerzo misionero local, ellas pueden alcanzar una clase de personas a las cuales no llegan nuestros pastores. Entre las nobles mujeres que tuvieron el valor moral de decidirse en favor de la verdad para este tiempo, se encuentran muchas que tienen tacto, percepción y habilidad, y que pueden llegar a ser obreras de éxito. Se necesitan las labores de tales mujeres cristianas (Review and Herald, 10 de diciembre, 1914).</a:t>
            </a:r>
            <a:r>
              <a:rPr b="1"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 34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380880" y="4305240"/>
            <a:ext cx="2362320" cy="1771560"/>
          </a:xfrm>
          <a:prstGeom prst="rect">
            <a:avLst/>
          </a:prstGeom>
          <a:ln w="0">
            <a:noFill/>
          </a:ln>
        </p:spPr>
      </p:pic>
      <p:sp>
        <p:nvSpPr>
          <p:cNvPr id="167" name="PlaceHolder 1"/>
          <p:cNvSpPr>
            <a:spLocks noGrp="1"/>
          </p:cNvSpPr>
          <p:nvPr>
            <p:ph/>
          </p:nvPr>
        </p:nvSpPr>
        <p:spPr>
          <a:xfrm>
            <a:off x="1218960" y="533520"/>
            <a:ext cx="7924680" cy="4525920"/>
          </a:xfrm>
          <a:prstGeom prst="rect">
            <a:avLst/>
          </a:prstGeom>
          <a:noFill/>
          <a:ln w="0">
            <a:noFill/>
          </a:ln>
        </p:spPr>
        <p:txBody>
          <a:bodyPr lIns="90000" rIns="90000" tIns="46800" bIns="46800"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t>
            </a:r>
            <a:r>
              <a:rPr b="0" lang="es-ES" sz="2800" spc="-1" strike="noStrike">
                <a:solidFill>
                  <a:srgbClr val="000000"/>
                </a:solidFill>
                <a:latin typeface="Trebuchet MS"/>
              </a:rPr>
              <a:t>Las mujeres pueden ser instrumentos de justicia, que presten un santo servicio. Fue María la que predicó primero acerca de un Jesús resucitado. . . Si hubiera veinte mujeres donde ahora hay una, que hicieran de esta santa misión su obra predilecta, veríamos a muchas más personas convertidas a la verdad. La influencia refinadora y suavizadora de las mujeres cristianas se necesita en la gran obra de predicar la verdad (Review and Herald, 2 de enero, 1879).”  </a:t>
            </a:r>
            <a:r>
              <a:rPr b="0" lang="es-ES" sz="2800" spc="-1" strike="noStrike">
                <a:solidFill>
                  <a:srgbClr val="000000"/>
                </a:solidFill>
                <a:latin typeface="Trebuchet MS"/>
              </a:rPr>
              <a:t>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p. 345)</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2895120" y="808200"/>
            <a:ext cx="6248520" cy="452592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3200" spc="-1" strike="noStrike">
                <a:solidFill>
                  <a:srgbClr val="000000"/>
                </a:solidFill>
                <a:latin typeface="Trebuchet MS"/>
              </a:rPr>
              <a:t> ”</a:t>
            </a:r>
            <a:r>
              <a:rPr b="0" lang="es-ES" sz="3200" spc="-1" strike="noStrike">
                <a:solidFill>
                  <a:srgbClr val="000000"/>
                </a:solidFill>
                <a:latin typeface="Trebuchet MS"/>
              </a:rPr>
              <a:t>El Señor de la viña está diciendo a muchas mujeres que ahora no hacen nada: "¿Por qué estáis aquí todo el día ociosas?" ... El celo y la diligencia continuos en la causa de Dios tendrían un pleno éxito y asombrarían con sus resultados.” (</a:t>
            </a:r>
            <a:r>
              <a:rPr b="0" i="1" lang="es-ES" sz="3200" spc="-1" strike="noStrike">
                <a:solidFill>
                  <a:srgbClr val="000000"/>
                </a:solidFill>
                <a:latin typeface="Trebuchet MS"/>
              </a:rPr>
              <a:t>Ministerio de la bondad</a:t>
            </a:r>
            <a:r>
              <a:rPr b="0" lang="es-ES" sz="3200" spc="-1" strike="noStrike">
                <a:solidFill>
                  <a:srgbClr val="000000"/>
                </a:solidFill>
                <a:latin typeface="Trebuchet MS"/>
              </a:rPr>
              <a:t>, p. 15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PlaceHolder 1"/>
          <p:cNvSpPr>
            <a:spLocks noGrp="1"/>
          </p:cNvSpPr>
          <p:nvPr>
            <p:ph/>
          </p:nvPr>
        </p:nvSpPr>
        <p:spPr>
          <a:xfrm>
            <a:off x="1142640" y="457200"/>
            <a:ext cx="7543800" cy="58975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3200" spc="-1" strike="noStrike">
                <a:solidFill>
                  <a:srgbClr val="000000"/>
                </a:solidFill>
                <a:latin typeface="Trebuchet MS"/>
              </a:rPr>
              <a:t>Hay que elegir para la obra a hombres sabios y consagrados que puedan realizar un buen trabajo en la tarea de alcanzar a las almas. También debiera elegirse a mujeres que puedan presentar la verdad en forma clara, inteligente y directa. Necesitamos obreros que comprendan la necesidad de que en los corazones se realice una obra de la gracia más profunda; a los tales habría que animarlos a dedicarse a un fervoroso esfuerzo misionero. Carta 54, 1909.” (</a:t>
            </a:r>
            <a:r>
              <a:rPr b="0" i="1" lang="es-ES" sz="3200" spc="-1" strike="noStrike">
                <a:solidFill>
                  <a:srgbClr val="000000"/>
                </a:solidFill>
                <a:latin typeface="Trebuchet MS"/>
              </a:rPr>
              <a:t>Evangelismo</a:t>
            </a:r>
            <a:r>
              <a:rPr b="0" lang="es-ES" sz="3200" spc="-1" strike="noStrike">
                <a:solidFill>
                  <a:srgbClr val="000000"/>
                </a:solidFill>
                <a:latin typeface="Trebuchet MS"/>
              </a:rPr>
              <a:t>, p. 34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PlaceHolder 1"/>
          <p:cNvSpPr>
            <a:spLocks noGrp="1"/>
          </p:cNvSpPr>
          <p:nvPr>
            <p:ph/>
          </p:nvPr>
        </p:nvSpPr>
        <p:spPr>
          <a:xfrm>
            <a:off x="1904760" y="1494000"/>
            <a:ext cx="693396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rebuchet MS"/>
              </a:rPr>
              <a:t>	</a:t>
            </a:r>
            <a:r>
              <a:rPr b="0" lang="es-ES" sz="3600" spc="-1" strike="noStrike">
                <a:solidFill>
                  <a:srgbClr val="000000"/>
                </a:solidFill>
                <a:latin typeface="Trebuchet MS"/>
              </a:rPr>
              <a:t>“</a:t>
            </a:r>
            <a:r>
              <a:rPr b="0" lang="es-ES" sz="3200" spc="-1" strike="noStrike">
                <a:solidFill>
                  <a:srgbClr val="000000"/>
                </a:solidFill>
                <a:latin typeface="Trebuchet MS"/>
              </a:rPr>
              <a:t>Las hermanas R y W están haciendo una obra tan eficaz como la de los pastores; y en algunas reuniones, cuando todos los pastores han tenido que salir, la hermana W toma la Biblia y se dirige a la congregación (Carta 169, 1900).”  (</a:t>
            </a:r>
            <a:r>
              <a:rPr b="0" i="1" lang="es-ES" sz="3200" spc="-1" strike="noStrike">
                <a:solidFill>
                  <a:srgbClr val="000000"/>
                </a:solidFill>
                <a:latin typeface="Trebuchet MS"/>
              </a:rPr>
              <a:t>Evangelismo</a:t>
            </a:r>
            <a:r>
              <a:rPr b="0" lang="es-ES" sz="3200" spc="-1" strike="noStrike">
                <a:solidFill>
                  <a:srgbClr val="000000"/>
                </a:solidFill>
                <a:latin typeface="Trebuchet MS"/>
              </a:rPr>
              <a:t>, p. 34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3943440"/>
            <a:ext cx="3886200" cy="2914560"/>
          </a:xfrm>
          <a:prstGeom prst="rect">
            <a:avLst/>
          </a:prstGeom>
          <a:ln w="0">
            <a:noFill/>
          </a:ln>
        </p:spPr>
      </p:pic>
      <p:sp>
        <p:nvSpPr>
          <p:cNvPr id="175" name="PlaceHolder 1"/>
          <p:cNvSpPr>
            <a:spLocks noGrp="1"/>
          </p:cNvSpPr>
          <p:nvPr>
            <p:ph/>
          </p:nvPr>
        </p:nvSpPr>
        <p:spPr>
          <a:xfrm>
            <a:off x="1676160" y="457200"/>
            <a:ext cx="7467480" cy="5516640"/>
          </a:xfrm>
          <a:prstGeom prst="rect">
            <a:avLst/>
          </a:prstGeom>
          <a:noFill/>
          <a:ln w="0">
            <a:noFill/>
          </a:ln>
        </p:spPr>
        <p:txBody>
          <a:bodyPr lIns="90000" rIns="90000" tIns="46800" bIns="46800"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lang="es-ES" sz="2800" spc="-1" strike="noStrike">
                <a:solidFill>
                  <a:srgbClr val="000000"/>
                </a:solidFill>
                <a:latin typeface="Trebuchet MS"/>
              </a:rPr>
              <a:t>Enseñe esto, hermano mío. Hay muchos caminos que se abren delante de Ud. Hable a la congregación cuando quiera que pueda hacerlo; utilice toda la influencia que pueda ejercer en su asociación con los demás para introducir la levadura en la masa. Cada hombre y cada mujer tiene una obra que hacer para el maestro. La consagración personal y la santificación a Dios se llevará a cabo mediante los métodos más sencillos, antes que por medio de la exhibición más imponente (Review and Herald, 9 de mayo, 1899).”  </a:t>
            </a:r>
            <a:endParaRPr b="0" lang="en-US" sz="2800" spc="-1" strike="noStrike">
              <a:solidFill>
                <a:srgbClr val="000000"/>
              </a:solidFill>
              <a:latin typeface="Arial"/>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Evangelismo</a:t>
            </a:r>
            <a:r>
              <a:rPr b="0" lang="es-ES" sz="2800" spc="-1" strike="noStrike">
                <a:solidFill>
                  <a:srgbClr val="000000"/>
                </a:solidFill>
                <a:latin typeface="Trebuchet MS"/>
              </a:rPr>
              <a:t>, p. 34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2971440" y="304920"/>
            <a:ext cx="6172200" cy="4525920"/>
          </a:xfrm>
          <a:prstGeom prst="rect">
            <a:avLst/>
          </a:prstGeom>
          <a:noFill/>
          <a:ln w="0">
            <a:noFill/>
          </a:ln>
        </p:spPr>
        <p:txBody>
          <a:bodyPr lIns="90000" rIns="90000" tIns="46800" bIns="46800" anchor="t">
            <a:normAutofit fontScale="90000"/>
          </a:bodyPr>
          <a:p>
            <a:pPr marL="30852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rebuchet MS"/>
              </a:rPr>
              <a:t>   </a:t>
            </a:r>
            <a:r>
              <a:rPr b="0" lang="es-ES" sz="2800" spc="-1" strike="noStrike">
                <a:solidFill>
                  <a:srgbClr val="000000"/>
                </a:solidFill>
                <a:latin typeface="Trebuchet MS"/>
              </a:rPr>
              <a:t>Dios desea obreros que puedan llevar la verdad a todas las clases, altas y bajas, ricas y pobres. En este trabajo, las mujeres pueden ejercer una parte importante. Quiera Dios que los que leen estas palabras dediquen sinceros esfuerzos para presentar una puerta abierta para que mujeres consagradas ingresen en el campo.</a:t>
            </a:r>
            <a:endParaRPr b="0" lang="en-US" sz="2800" spc="-1" strike="noStrike">
              <a:solidFill>
                <a:srgbClr val="000000"/>
              </a:solidFill>
              <a:latin typeface="Arial"/>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5MR 162.(</a:t>
            </a:r>
            <a:r>
              <a:rPr b="0" i="1" lang="es-ES" sz="2800" spc="-1" strike="noStrike">
                <a:solidFill>
                  <a:srgbClr val="000000"/>
                </a:solidFill>
                <a:latin typeface="Trebuchet MS"/>
              </a:rPr>
              <a:t>Daughters of God</a:t>
            </a:r>
            <a:r>
              <a:rPr b="0" lang="es-ES" sz="2800" spc="-1" strike="noStrike">
                <a:solidFill>
                  <a:srgbClr val="000000"/>
                </a:solidFill>
                <a:latin typeface="Trebuchet MS"/>
              </a:rPr>
              <a:t>, p. 102)</a:t>
            </a:r>
            <a:endParaRPr b="0" lang="en-US" sz="2800" spc="-1" strike="noStrike">
              <a:solidFill>
                <a:srgbClr val="000000"/>
              </a:solidFill>
              <a:latin typeface="Arial"/>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0"/>
            <a:ext cx="9144000" cy="6858000"/>
          </a:xfrm>
          <a:prstGeom prst="rect">
            <a:avLst/>
          </a:prstGeom>
          <a:ln w="0">
            <a:noFill/>
          </a:ln>
        </p:spPr>
      </p:pic>
      <p:sp>
        <p:nvSpPr>
          <p:cNvPr id="177" name="PlaceHolder 1"/>
          <p:cNvSpPr>
            <a:spLocks noGrp="1"/>
          </p:cNvSpPr>
          <p:nvPr>
            <p:ph/>
          </p:nvPr>
        </p:nvSpPr>
        <p:spPr>
          <a:xfrm>
            <a:off x="2514240" y="151920"/>
            <a:ext cx="6553080" cy="5668920"/>
          </a:xfrm>
          <a:prstGeom prst="rect">
            <a:avLst/>
          </a:prstGeom>
          <a:noFill/>
          <a:ln w="0">
            <a:noFill/>
          </a:ln>
        </p:spPr>
        <p:txBody>
          <a:bodyPr lIns="90000" rIns="90000" tIns="46800" bIns="46800"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rebuchet MS"/>
              </a:rPr>
              <a:t> </a:t>
            </a:r>
            <a:r>
              <a:rPr b="0" lang="es-ES" sz="2800" spc="-1" strike="noStrike">
                <a:solidFill>
                  <a:srgbClr val="ffff00"/>
                </a:solidFill>
                <a:latin typeface="Trebuchet MS"/>
              </a:rPr>
              <a:t>Las mujeres que están dispuestas a consagrar parte de su tiempo al servicio del Señor deberían recibir la incumbencia de visitar al enfermo, cuidar de los jóvenes y ministrar las necesidades del pobre. Deberían ser separadas para este trabajo por la oración y por la imposición de manos. En algunos casos, deberán recibir el consejo de los oficiales o del ministro de la iglesia; pero, si fueren mujeres devotas, manteniendo conexión vital con Dios, serán un poder para el bien en la iglesia.Review and Herald, 9 de julio de 1895. (</a:t>
            </a:r>
            <a:r>
              <a:rPr b="0" i="1" lang="es-ES" sz="2800" spc="-1" strike="noStrike">
                <a:solidFill>
                  <a:srgbClr val="ffff00"/>
                </a:solidFill>
                <a:latin typeface="Trebuchet MS"/>
              </a:rPr>
              <a:t>Daughters of God, p.</a:t>
            </a:r>
            <a:r>
              <a:rPr b="0" lang="es-ES" sz="2800" spc="-1" strike="noStrike">
                <a:solidFill>
                  <a:srgbClr val="ffff00"/>
                </a:solidFill>
                <a:latin typeface="Trebuchet MS"/>
              </a:rPr>
              <a:t> 10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p:nvPr>
        </p:nvSpPr>
        <p:spPr>
          <a:xfrm>
            <a:off x="152280" y="2484360"/>
            <a:ext cx="5639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Trebuchet MS"/>
              </a:rPr>
              <a:t>Qué oportunidades tienes personalmente, de alcanzar a otras personas para D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3200" spc="-1" strike="noStrike">
                <a:solidFill>
                  <a:srgbClr val="000000"/>
                </a:solidFill>
                <a:latin typeface="Trebuchet MS"/>
              </a:rPr>
              <a:t>Qué puedes hacer para comenzar o para mejorar la forma como compartes tu fe con otras personas?</a:t>
            </a:r>
            <a:endParaRPr b="0" lang="en-US" sz="3200" spc="-1" strike="noStrike">
              <a:solidFill>
                <a:srgbClr val="000000"/>
              </a:solidFill>
              <a:latin typeface="Arial"/>
            </a:endParaRPr>
          </a:p>
        </p:txBody>
      </p:sp>
      <p:sp>
        <p:nvSpPr>
          <p:cNvPr id="182" name=""/>
          <p:cNvSpPr txBox="1"/>
          <p:nvPr/>
        </p:nvSpPr>
        <p:spPr>
          <a:xfrm>
            <a:off x="152280" y="990720"/>
            <a:ext cx="6629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rPr>
              <a:t>Preguntas para consideración Personal</a:t>
            </a:r>
            <a:endParaRPr b="1" i="1" lang="en-US" sz="1800" spc="1" strike="noStrike">
              <a:ln w="9360">
                <a:solidFill>
                  <a:srgbClr val="993300"/>
                </a:solidFill>
                <a:miter/>
              </a:ln>
              <a:solidFill>
                <a:srgbClr val="993300"/>
              </a:solidFill>
              <a:effectLst>
                <a:outerShdw dist="17819" dir="2700000" blurRad="0" rotWithShape="0">
                  <a:srgbClr val="000000">
                    <a:alpha val="80000"/>
                  </a:srgbClr>
                </a:outerShdw>
              </a:effectLst>
              <a:latin typeface="Calligrapher"/>
              <a:ea typeface="Calligraphe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990360" y="380880"/>
            <a:ext cx="8001000" cy="5639040"/>
          </a:xfrm>
          <a:prstGeom prst="rect">
            <a:avLst/>
          </a:prstGeom>
          <a:noFill/>
          <a:ln w="0">
            <a:noFill/>
          </a:ln>
        </p:spPr>
        <p:txBody>
          <a:bodyPr lIns="90000" rIns="90000" tIns="46800" bIns="46800" anchor="t">
            <a:normAutofit fontScale="97000"/>
          </a:bodyPr>
          <a:p>
            <a:pPr marL="33264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 obra que Ud.* está haciendo para ayudar a nuestras hermanas, a fin de que sientan su responsabilidad individual ante Dios, es una obra buena y necesaria. Ha sido descuidada durante mucho tiempo. Pero cuando esta obra se traza con líneas claras, sencillas y definidas, podemos esperar que los deberes hogareños, en vez de ser descuidados, serán hechos mucho más inteligentemente. El Señor quiere que nosotros siempre hagamos resaltar el valor del alma humana ante aquellos que no comprenden su val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837720" y="609120"/>
            <a:ext cx="8153640" cy="5334120"/>
          </a:xfrm>
          <a:prstGeom prst="rect">
            <a:avLst/>
          </a:prstGeom>
          <a:noFill/>
          <a:ln w="0">
            <a:noFill/>
          </a:ln>
        </p:spPr>
        <p:txBody>
          <a:bodyPr lIns="90000" rIns="90000" tIns="46800" bIns="46800" anchor="t">
            <a:normAutofit fontScale="93000"/>
          </a:bodyPr>
          <a:p>
            <a:pPr marL="31896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Si podemos hacer arreglos para que haya grupos organizados, regulares, inteligentemente instruidos en lo que atañe a la parte que deben realizar como siervos del Maestro, nuestras iglesias tendrán una vida y vitalidad que hace mucho que necesitaban. Se apreciará la excelencia del alma que Cristo ha salvado. Nuestras hermanas generalmente sufren debido a que sus familias aumentan y no se aprecian sus pruebas.</a:t>
            </a:r>
            <a:r>
              <a:rPr b="0" lang="es-ES"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2209680" y="604800"/>
            <a:ext cx="63248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Por mucho tiempo he anhelado que hubiera mujeres que pudieran ser educadas para ayudar a nuestras hermanas a levantarse de su desánimo y sentir que podrían hacer una obra para el Señor. Esto es hacer brillar rayos de sol en sus propias vidas, que se reflejan en los corazones de otros. Dios la bendecirá y a todas las que se unan con Ud. en esta gran obra (Carta 54, 1899). </a:t>
            </a:r>
            <a:r>
              <a:rPr b="1"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Ministerio de Curación</a:t>
            </a:r>
            <a:r>
              <a:rPr b="0" lang="es-ES" sz="2800" spc="-1" strike="noStrike">
                <a:solidFill>
                  <a:srgbClr val="000000"/>
                </a:solidFill>
                <a:latin typeface="Trebuchet MS"/>
              </a:rPr>
              <a:t>, p. 149-15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2590560" y="579600"/>
            <a:ext cx="6629400" cy="4525920"/>
          </a:xfrm>
          <a:prstGeom prst="rect">
            <a:avLst/>
          </a:prstGeom>
          <a:noFill/>
          <a:ln w="0">
            <a:noFill/>
          </a:ln>
        </p:spPr>
        <p:txBody>
          <a:bodyPr lIns="90000" rIns="90000" tIns="46800" bIns="46800" anchor="t">
            <a:normAutofit fontScale="85000"/>
          </a:bodyPr>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Las mujeres que tienen la causa de Dios en el corazón pueden realizar una buena obra en los distritos en los cuales residen. Cristo habla de mujeres que lo ayudaron a presentar la verdad ante los otros, y Pablo también habla de las mujeres que trabajaron con él en el evangelio. Pero cuán limitada es la obra realizada por aquellas que podrían hacer un gran trabajo si se disponen a eso. Carta 31, 1894.</a:t>
            </a:r>
            <a:endParaRPr b="0" lang="en-US" sz="2800" spc="-1" strike="noStrike">
              <a:solidFill>
                <a:srgbClr val="000000"/>
              </a:solidFill>
              <a:latin typeface="Arial"/>
            </a:endParaRPr>
          </a:p>
          <a:p>
            <a:pPr marL="291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a:t>
            </a:r>
            <a:r>
              <a:rPr b="0" i="1" lang="es-ES" sz="2800" spc="-1" strike="noStrike">
                <a:solidFill>
                  <a:srgbClr val="000000"/>
                </a:solidFill>
                <a:latin typeface="Trebuchet MS"/>
              </a:rPr>
              <a:t>Daughters of God</a:t>
            </a:r>
            <a:r>
              <a:rPr b="0" lang="es-ES" sz="2800" spc="-1" strike="noStrike">
                <a:solidFill>
                  <a:srgbClr val="000000"/>
                </a:solidFill>
                <a:latin typeface="Trebuchet MS"/>
              </a:rPr>
              <a:t>, p. 21)</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46:48Z</dcterms:created>
  <dc:creator>ArraisR</dc:creator>
  <dc:description/>
  <dc:language>en-US</dc:language>
  <cp:lastModifiedBy>Nelida Leguizamon</cp:lastModifiedBy>
  <dcterms:modified xsi:type="dcterms:W3CDTF">2007-11-08T12:40:15Z</dcterms:modified>
  <cp:revision>132</cp:revision>
  <dc:subject/>
  <dc:title>Slide 1</dc:title>
</cp:coreProperties>
</file>